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9789-A002-478A-9B44-6902059AF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EAC8-BB6D-4FC6-AD0E-1BB54C42F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D6E7B-BE8F-403D-AEE8-621842404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10D21-C18C-456B-A4B7-02D845306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01446-2668-4150-894D-37E9ED9DC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to H &amp;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315C-BBD2-440D-98F6-FACBCC690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17DF9-CC6F-4CA1-A039-AD452EB77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5A2C9-E113-41A3-A8A4-BB20566A1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9B026-2DB8-4975-A2EA-C99AFF83A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05E72-6327-47DA-B748-9C58F5E89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604880" y="0"/>
            <a:ext cx="4267440" cy="3200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0" y="3360240"/>
            <a:ext cx="73152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701ED-5F49-48B8-AE92-29DFB32DA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4DB3-4D87-4808-9B5C-6F21C7A7F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ACAAF-F7C1-4A35-91E4-D86415208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30A3-E9C0-436E-9FB3-5960ECB62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F7A8B-9D86-495A-9C24-4686B75C6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F98C3-5D72-42AD-9040-32B47E946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FDD53-3AE4-4951-8883-939D2BE0E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343480" y="6629400"/>
            <a:ext cx="3571920" cy="76320"/>
            <a:chOff x="5343480" y="6629400"/>
            <a:chExt cx="3571920" cy="76320"/>
          </a:xfrm>
        </p:grpSpPr>
        <p:sp>
          <p:nvSpPr>
            <p:cNvPr id="3" name=""/>
            <p:cNvSpPr/>
            <p:nvPr/>
          </p:nvSpPr>
          <p:spPr>
            <a:xfrm flipV="1">
              <a:off x="5343480" y="6629400"/>
              <a:ext cx="9684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74311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8123400" y="6629400"/>
              <a:ext cx="9684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820000" y="6629400"/>
              <a:ext cx="954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534348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285920" y="6477120"/>
            <a:ext cx="389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16800" y="30492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6120" y="30492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40320" y="30492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4520" y="30492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5238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138320"/>
            <a:ext cx="5943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5238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ospicepiedmont.org/images/hospice_care_services.jpg&amp;imgrefurl=http://www.hospicepiedmont.org/index.php%3Fcontent%3Dhospice_care&amp;h=269&amp;w=296&amp;sz=62&amp;hl=en&amp;start=18&amp;tbnid=O88paip7UORrOM:&amp;tbnh=105&amp;tbnw=116&amp;prev=/images%3Fq%3DHospice%26gbv%3D2%26svnum%3D10%26hl%3Den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ospicesoky.org/_borders/Hospice%2520Logo.JPG&amp;imgrefurl=http://www.hospicesoky.org/donations.htm&amp;h=344&amp;w=382&amp;sz=54&amp;hl=en&amp;start=9&amp;tbnid=mQAhR02ZATn35M:&amp;tbnh=111&amp;tbnw=123&amp;prev=/images%3Fq%3DHospice%26gbv%3D2%26svnum%3D10%26hl%3Den%26sa%3D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ул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90920" y="50324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Паллиативное лечение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вые протекания заболевани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мерти медленная ожидаемая смерть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6172200"/>
            <a:ext cx="2514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unney et al.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5840" y="4748040"/>
            <a:ext cx="1604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мерть</a:t>
            </a:r>
            <a:r>
              <a:rPr b="1" lang="ru-RU" sz="28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11760" y="5807160"/>
            <a:ext cx="1518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Время</a:t>
            </a:r>
            <a:r>
              <a:rPr b="1" lang="ru-RU" sz="28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 rot="5400000">
            <a:off x="-1332000" y="3460680"/>
            <a:ext cx="3972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остояние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98720" y="1881360"/>
            <a:ext cx="0" cy="4046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7840" y="5902200"/>
            <a:ext cx="7194600" cy="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5480" y="4017960"/>
            <a:ext cx="6360840" cy="1801800"/>
          </a:xfrm>
          <a:custGeom>
            <a:avLst/>
            <a:gdLst/>
            <a:ahLst/>
            <a:rect l="l" t="t" r="r" b="b"/>
            <a:pathLst>
              <a:path w="4007" h="1135">
                <a:moveTo>
                  <a:pt x="0" y="0"/>
                </a:moveTo>
                <a:cubicBezTo>
                  <a:pt x="167" y="25"/>
                  <a:pt x="335" y="50"/>
                  <a:pt x="424" y="118"/>
                </a:cubicBezTo>
                <a:cubicBezTo>
                  <a:pt x="513" y="186"/>
                  <a:pt x="459" y="364"/>
                  <a:pt x="534" y="406"/>
                </a:cubicBezTo>
                <a:cubicBezTo>
                  <a:pt x="609" y="448"/>
                  <a:pt x="788" y="337"/>
                  <a:pt x="873" y="372"/>
                </a:cubicBezTo>
                <a:cubicBezTo>
                  <a:pt x="958" y="407"/>
                  <a:pt x="954" y="585"/>
                  <a:pt x="1042" y="618"/>
                </a:cubicBezTo>
                <a:cubicBezTo>
                  <a:pt x="1130" y="651"/>
                  <a:pt x="1305" y="536"/>
                  <a:pt x="1398" y="567"/>
                </a:cubicBezTo>
                <a:cubicBezTo>
                  <a:pt x="1491" y="598"/>
                  <a:pt x="1532" y="749"/>
                  <a:pt x="1601" y="804"/>
                </a:cubicBezTo>
                <a:cubicBezTo>
                  <a:pt x="1670" y="859"/>
                  <a:pt x="1703" y="879"/>
                  <a:pt x="1813" y="897"/>
                </a:cubicBezTo>
                <a:cubicBezTo>
                  <a:pt x="1923" y="915"/>
                  <a:pt x="2139" y="896"/>
                  <a:pt x="2262" y="914"/>
                </a:cubicBezTo>
                <a:cubicBezTo>
                  <a:pt x="2385" y="932"/>
                  <a:pt x="2388" y="992"/>
                  <a:pt x="2550" y="1008"/>
                </a:cubicBezTo>
                <a:cubicBezTo>
                  <a:pt x="2712" y="1024"/>
                  <a:pt x="3077" y="1000"/>
                  <a:pt x="3236" y="1008"/>
                </a:cubicBezTo>
                <a:cubicBezTo>
                  <a:pt x="3395" y="1016"/>
                  <a:pt x="3411" y="1054"/>
                  <a:pt x="3507" y="1058"/>
                </a:cubicBezTo>
                <a:cubicBezTo>
                  <a:pt x="3603" y="1062"/>
                  <a:pt x="3729" y="1020"/>
                  <a:pt x="3812" y="1033"/>
                </a:cubicBezTo>
                <a:cubicBezTo>
                  <a:pt x="3895" y="1046"/>
                  <a:pt x="3958" y="1117"/>
                  <a:pt x="4007" y="1135"/>
                </a:cubicBezTo>
              </a:path>
            </a:pathLst>
          </a:custGeom>
          <a:noFill/>
          <a:ln w="38160">
            <a:solidFill>
              <a:srgbClr val="ffff99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0960" y="3206880"/>
            <a:ext cx="1886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f9f"/>
                </a:solidFill>
                <a:uFillTx/>
                <a:latin typeface="Arial"/>
              </a:rPr>
              <a:t>Слаб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актор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шающие предоставлению медицинского обслуживан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онце жизн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868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еспособность признать, что возможности медицины не безграничны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едостаточная подготовка поставщиков медицинских услуг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лохое понимание сути услуг хосписа/паллиативного лечен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равила и нормативы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едоступность опиоидов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трицание смерти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5160" y="6186600"/>
            <a:ext cx="232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re et al.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хоспи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60400" y="2157120"/>
            <a:ext cx="4168800" cy="326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пределение 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стория 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кие услуги хосписа доступны в вашей стране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?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286000"/>
            <a:ext cx="3048120" cy="2757600"/>
          </a:xfrm>
          <a:prstGeom prst="rect">
            <a:avLst/>
          </a:prstGeom>
          <a:ln w="28440">
            <a:solidFill>
              <a:srgbClr val="00d1cc"/>
            </a:solidFill>
            <a:miter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60440"/>
            <a:ext cx="853416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паллиативное леч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8840" y="2239560"/>
            <a:ext cx="5405400" cy="24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пределени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стория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кие формы паллиативного лечения доступны в вашей стране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?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284560"/>
            <a:ext cx="2971800" cy="2681280"/>
          </a:xfrm>
          <a:prstGeom prst="rect">
            <a:avLst/>
          </a:prstGeom>
          <a:ln w="28440">
            <a:solidFill>
              <a:srgbClr val="00d1cc"/>
            </a:solidFill>
            <a:miter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80680" y="228600"/>
            <a:ext cx="807732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оспис может включат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многопрофильное лечение;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медицинское оборудование и расходные материалы;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лекарственные препараты для снятия симптомов и боли;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краткосрочное стационарное лечение </a:t>
            </a:r>
            <a:br>
              <a:rPr sz="2800"/>
            </a:b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и временный уход для предоставления отдыха родственникам;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консультирование;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духовную поддержку;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услуги волонтеров;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-308520">
              <a:lnSpc>
                <a:spcPts val="2299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услуги, оказываемые для облегчения чувства потери близкого человека.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0">
              <a:lnSpc>
                <a:spcPts val="22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08520" indent="0">
              <a:lnSpc>
                <a:spcPts val="22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f9f"/>
                </a:solidFill>
                <a:latin typeface="Times New Roman"/>
              </a:rPr>
              <a:t>Что предлагает хоспис в вашей стране</a:t>
            </a:r>
            <a:r>
              <a:rPr b="1" i="1" lang="en-US" sz="2800" spc="-1" strike="noStrike">
                <a:solidFill>
                  <a:srgbClr val="ffcf9f"/>
                </a:solidFill>
                <a:latin typeface="Times New Roman"/>
                <a:ea typeface="ＭＳ Ｐゴシック"/>
              </a:rPr>
              <a:t>?</a:t>
            </a:r>
            <a:r>
              <a:rPr b="1" lang="ru-RU" sz="2800" spc="-1" strike="noStrike">
                <a:solidFill>
                  <a:srgbClr val="ffcf9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3320" y="3048120"/>
            <a:ext cx="4524480" cy="25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0bab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048120"/>
            <a:ext cx="198900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54720" y="3048120"/>
            <a:ext cx="406440" cy="25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962520"/>
            <a:ext cx="25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апевтическое 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39956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лиативное л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90040" y="4224240"/>
            <a:ext cx="120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Хоспи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3962520"/>
            <a:ext cx="430200" cy="255600"/>
          </a:xfrm>
          <a:prstGeom prst="line">
            <a:avLst/>
          </a:prstGeom>
          <a:ln w="38160">
            <a:solidFill>
              <a:srgbClr val="00d1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609480"/>
            <a:ext cx="800100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уществующая практика услуг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осписа 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ллиативного л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81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ллиативное лечени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62760" y="6248520"/>
            <a:ext cx="3758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Health Organiza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2002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7880" y="2471760"/>
            <a:ext cx="6224760" cy="2446200"/>
          </a:xfrm>
          <a:prstGeom prst="rtTriangle">
            <a:avLst/>
          </a:prstGeom>
          <a:gradFill rotWithShape="0">
            <a:gsLst>
              <a:gs pos="0">
                <a:srgbClr val="ecdbfe"/>
              </a:gs>
              <a:gs pos="100000">
                <a:srgbClr val="e2c5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rot="10800000">
            <a:off x="266760" y="2418840"/>
            <a:ext cx="6224400" cy="2433960"/>
          </a:xfrm>
          <a:prstGeom prst="rtTriangle">
            <a:avLst/>
          </a:prstGeom>
          <a:gradFill rotWithShape="0">
            <a:gsLst>
              <a:gs pos="0">
                <a:srgbClr val="9dfefe"/>
              </a:gs>
              <a:gs pos="100000">
                <a:srgbClr val="66ff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81800" y="2409840"/>
            <a:ext cx="2487600" cy="2502000"/>
          </a:xfrm>
          <a:prstGeom prst="rtTriangle">
            <a:avLst/>
          </a:prstGeom>
          <a:gradFill rotWithShape="0">
            <a:gsLst>
              <a:gs pos="0">
                <a:srgbClr val="ffcf9f"/>
              </a:gs>
              <a:gs pos="100000">
                <a:srgbClr val="fedfc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4960" y="2425320"/>
            <a:ext cx="6212160" cy="24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2438280"/>
            <a:ext cx="0" cy="247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960" y="2484360"/>
            <a:ext cx="491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апевтическое лече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ние определенных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3844800"/>
            <a:ext cx="34131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лиативное лече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ивающе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фортно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я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23120" y="3768840"/>
            <a:ext cx="2720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яз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отере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ког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2438280"/>
            <a:ext cx="4875120" cy="2514600"/>
          </a:xfrm>
          <a:prstGeom prst="rect">
            <a:avLst/>
          </a:prstGeom>
          <a:gradFill rotWithShape="0">
            <a:gsLst>
              <a:gs pos="0">
                <a:srgbClr val="8fffff"/>
              </a:gs>
              <a:gs pos="100000">
                <a:srgbClr val="8bc5ff"/>
              </a:gs>
            </a:gsLst>
            <a:lin ang="135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9800" y="2438280"/>
            <a:ext cx="162576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6840" y="2666880"/>
            <a:ext cx="3047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-модифицирующая терапия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37280" y="3386160"/>
            <a:ext cx="1447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уги хоспи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2438280"/>
            <a:ext cx="2286000" cy="2514600"/>
          </a:xfrm>
          <a:prstGeom prst="rtTriangle">
            <a:avLst/>
          </a:prstGeom>
          <a:solidFill>
            <a:srgbClr val="ffcf9f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3886200"/>
            <a:ext cx="214812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язи с потерей близкого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762120"/>
            <a:ext cx="80010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прерывность процесса ух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57400" y="4191120"/>
            <a:ext cx="209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лиативное л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4200" y="2437920"/>
            <a:ext cx="6553440" cy="2514600"/>
          </a:xfrm>
          <a:prstGeom prst="line">
            <a:avLst/>
          </a:prstGeom>
          <a:ln w="1908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5029200"/>
            <a:ext cx="2133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смертная фаза боле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24800" y="2133720"/>
            <a:ext cx="135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ер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6019920"/>
            <a:ext cx="2074680" cy="5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QF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,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ктическая работа:  изучение конкретного случа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057400"/>
            <a:ext cx="883908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38-летний мужчина с серповидно-клеточной анеми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еренес инсульт</a:t>
            </a:r>
            <a:r>
              <a:rPr b="1" lang="en-GB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 8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есяцев наз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аходится в учреждении медсестринского ух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Частые обострения боли в течение последних 6 месяцев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(8 госпитализаций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талонная схема качества жизн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6248520" cy="2666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Физическое здоровь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сихологическое здоровь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оциальное благополучи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Духовное благополучи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3124080" cy="2224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781680" y="6186600"/>
            <a:ext cx="2362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rrell et 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мертность – мировая статистик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3160" y="1541520"/>
          <a:ext cx="8894520" cy="4424400"/>
        </p:xfrm>
        <a:graphic>
          <a:graphicData uri="http://schemas.openxmlformats.org/drawingml/2006/table">
            <a:tbl>
              <a:tblPr/>
              <a:tblGrid>
                <a:gridCol w="5465520"/>
                <a:gridCol w="1752840"/>
                <a:gridCol w="167616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мертей в миллионах</a:t>
                      </a:r>
                      <a:r>
                        <a:rPr b="1" lang="ru-RU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мер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шемическая болезнь серд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ульт и другие цереброваскулярные заболе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трахеи, бронхов и лег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и нижних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ое обструктивное заболевание лег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толстой и прямой киш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ь Альцгеймера и другие демен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ный диаб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гру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желуд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28600" y="1066680"/>
            <a:ext cx="662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9f"/>
                </a:solidFill>
                <a:latin typeface="Arial"/>
              </a:rPr>
              <a:t>Страны с высоким уровнем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9588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Health Organiza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76320"/>
            <a:ext cx="281916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ональ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а/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н и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ш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пе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0"/>
            <a:ext cx="280512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пок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пре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аждение/дос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, недомог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ние/вним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11280" y="2887560"/>
            <a:ext cx="259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Whitney Medium"/>
                <a:ea typeface="ＭＳ Ｐゴシック"/>
              </a:rPr>
              <a:t>Качество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429000"/>
            <a:ext cx="281916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ов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ос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жилых/боль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ли и 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суальны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ш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429000"/>
            <a:ext cx="281916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ухо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чени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лиги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сценден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74280" y="6232680"/>
            <a:ext cx="3757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dapted from Ferrell et al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643800">
            <a:off x="5105160" y="259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3837800">
            <a:off x="3657240" y="2590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8476200">
            <a:off x="3638160" y="3447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554200">
            <a:off x="5181120" y="34286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хранение надежды перед смертью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342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Эмпирические процесс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уховные процессы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еляционные процессы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оцессы рационального мышления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sek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08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едства и ресурсы паллиативного леч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2803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ts val="36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fffff"/>
                </a:solidFill>
                <a:uFillTx/>
                <a:latin typeface="Arial"/>
              </a:rPr>
              <a:t>Средства оценки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ts val="36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Физические симптомы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ts val="36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Эмоциональные симптомы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ts val="36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уховность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ts val="36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чество жизни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ts val="36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езультаты для лиц, ухаживающих за больным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prc.coh.org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гнозировани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бщее состояни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лохие показатели по шкале Карнофского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(Karnofsky)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огнозы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Множественные симптомы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Биологические показатели (например, альбумин)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«Было ли бы для меня удивительным, если бы этот пациент умер через 6 месяцев?»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Lynn et al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., 2000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560" y="22096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изнание существования неизлечимых состояний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спользование терапевтического присутствия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охранение реалистичной перспективы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оль медсестры в повышении качества паллиативного леч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486400" y="2895480"/>
            <a:ext cx="3276720" cy="2381400"/>
          </a:xfrm>
          <a:prstGeom prst="rect">
            <a:avLst/>
          </a:prstGeom>
          <a:ln w="57240">
            <a:solidFill>
              <a:srgbClr val="1e8bb2"/>
            </a:solidFill>
            <a:miter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сширение возможностей паллиативного леч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83908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едсестры как основа постоянства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асширение концепции исцеления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разованность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460440"/>
            <a:ext cx="830592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лючительные мысли….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447920"/>
            <a:ext cx="80010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Качественное паллиативное лечение направлено на решение вопросов, связанных с качеством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овышение уровня подготовки медсестер является неотъемлемым услов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«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Быть с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»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Важность междисциплинарного подхода к леч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52280" y="638496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Monotype Corsiva"/>
              </a:rPr>
              <a:t>Всегда утеш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мертность – мировая статистик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3160" y="1541520"/>
          <a:ext cx="8894520" cy="4475160"/>
        </p:xfrm>
        <a:graphic>
          <a:graphicData uri="http://schemas.openxmlformats.org/drawingml/2006/table">
            <a:tbl>
              <a:tblPr/>
              <a:tblGrid>
                <a:gridCol w="5541840"/>
                <a:gridCol w="1752480"/>
                <a:gridCol w="16002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мертей в миллионах</a:t>
                      </a:r>
                      <a:r>
                        <a:rPr b="1" lang="ru-RU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мертей</a:t>
                      </a:r>
                      <a:r>
                        <a:rPr b="1" lang="ru-RU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ульт и другие цереброваскулярные заболе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шемическая болезнь серд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ое обструктивное заболевание лег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и нижних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Ч/СП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натальные нару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желуд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трахеи, бронхов и лег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о-транспортные происшест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тоническая болезнь серд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228600" y="1066680"/>
            <a:ext cx="723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9f"/>
                </a:solidFill>
                <a:latin typeface="Arial"/>
              </a:rPr>
              <a:t>Страны со средним уровнем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623268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Health Organiza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мертность – мировая статистика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3920" y="1541520"/>
          <a:ext cx="8767800" cy="4424400"/>
        </p:xfrm>
        <a:graphic>
          <a:graphicData uri="http://schemas.openxmlformats.org/drawingml/2006/table">
            <a:tbl>
              <a:tblPr/>
              <a:tblGrid>
                <a:gridCol w="5338800"/>
                <a:gridCol w="1828800"/>
                <a:gridCol w="16002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мертей в миллионах</a:t>
                      </a:r>
                      <a:r>
                        <a:rPr b="1" lang="ru-RU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мертей</a:t>
                      </a:r>
                      <a:r>
                        <a:rPr b="1" lang="ru-RU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шемическая болезнь серд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и нижних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Ч/СП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натальные нару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ульт и другие цереброваскулярные заболе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р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я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беркуле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ое обструктивное заболевание лег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о-транспортные происшест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28600" y="1066680"/>
            <a:ext cx="754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9f"/>
                </a:solidFill>
                <a:latin typeface="Arial"/>
              </a:rPr>
              <a:t>Страны с низким уровнем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623268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Health Organiza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аких случаях необходимо паллиативное лечение?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айоны боевых действий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Геноцид 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ассовые человеческие жертвы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 (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тичий грипп и другие пандеми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)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алярия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зличия в причинах смерт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5029200" cy="14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ковы различия, характерные для вашей страны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ли района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64200" y="2335320"/>
            <a:ext cx="397980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651360" y="5140440"/>
            <a:ext cx="1505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м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10320" y="5554800"/>
            <a:ext cx="14551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Время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 rot="5400000">
            <a:off x="1342080" y="4043160"/>
            <a:ext cx="2766960" cy="7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84560" y="2986200"/>
            <a:ext cx="2870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76840" y="3584520"/>
            <a:ext cx="0" cy="2165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79880" y="5730480"/>
            <a:ext cx="3994200" cy="46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73400" y="2712960"/>
            <a:ext cx="4680" cy="304956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960" y="2971800"/>
            <a:ext cx="549360" cy="620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73040"/>
            <a:ext cx="8610480" cy="15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вые протекания заболевани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мер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незапная смерт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ожиданная прич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67200" y="624852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238880" y="5335560"/>
            <a:ext cx="1505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м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4520" y="5840280"/>
            <a:ext cx="1518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Врем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 rot="5400000">
            <a:off x="-1247040" y="3520080"/>
            <a:ext cx="40075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остояние здоровья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28760" y="1909800"/>
            <a:ext cx="0" cy="4046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200" y="617220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7320" y="2379600"/>
            <a:ext cx="65880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7040" y="2386080"/>
            <a:ext cx="4924440" cy="35240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11120" y="5931000"/>
            <a:ext cx="6394680" cy="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1960"/>
            <a:ext cx="9144000" cy="184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вые протекания заболевани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мер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тоянное ухудшени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роткая предсмертная фаз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520560"/>
            <a:ext cx="8229600" cy="184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ивые протекания заболевани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мер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дленное ухудшени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вторяющиеся кризис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мерть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25800">
            <a:off x="-675360" y="3471840"/>
            <a:ext cx="3451320" cy="7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остояние здоровья</a:t>
            </a:r>
            <a:r>
              <a:rPr b="1" lang="ru-RU" sz="28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7080" y="5556240"/>
            <a:ext cx="1518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Врем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69480" y="4730760"/>
            <a:ext cx="159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f9f"/>
                </a:solidFill>
                <a:uFillTx/>
                <a:latin typeface="Arial"/>
              </a:rPr>
              <a:t>Кризи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63800" y="5099040"/>
            <a:ext cx="1604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Смер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3054240"/>
            <a:ext cx="1866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f9f"/>
                </a:solidFill>
                <a:uFillTx/>
                <a:latin typeface="Arial"/>
              </a:rPr>
              <a:t>Ухуд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362320"/>
            <a:ext cx="0" cy="320040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5562720"/>
            <a:ext cx="5943600" cy="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352680"/>
            <a:ext cx="380880" cy="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352680"/>
            <a:ext cx="152280" cy="60984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81080" y="3580920"/>
            <a:ext cx="152640" cy="38124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581280"/>
            <a:ext cx="533160" cy="7632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657600"/>
            <a:ext cx="990360" cy="22860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7080" y="4114800"/>
            <a:ext cx="228600" cy="45720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657600"/>
            <a:ext cx="76320" cy="6094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43200" y="3657240"/>
            <a:ext cx="304920" cy="6094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886200"/>
            <a:ext cx="228600" cy="6858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1000" y="4119480"/>
            <a:ext cx="533520" cy="2286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24520" y="4348080"/>
            <a:ext cx="75960" cy="3812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100480" y="4424040"/>
            <a:ext cx="152640" cy="3049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3120" y="4424400"/>
            <a:ext cx="304560" cy="763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7680" y="4500720"/>
            <a:ext cx="76320" cy="2286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67520" y="4653000"/>
            <a:ext cx="0" cy="914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0320" y="4576680"/>
            <a:ext cx="457200" cy="763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634000" y="4576680"/>
            <a:ext cx="76320" cy="152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67200" y="624852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rvirani</cp:lastModifiedBy>
  <dcterms:modified xsi:type="dcterms:W3CDTF">2008-03-03T22:50:49Z</dcterms:modified>
  <cp:revision>54</cp:revision>
  <dc:subject/>
  <dc:title>Slide 1</dc:title>
</cp:coreProperties>
</file>