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295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885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уль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5032440"/>
            <a:ext cx="5562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Потеря, горе и тяжелая утрата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ложненное гор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648320" cy="38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Хроническое горе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Отсроченное горе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Преувеличенное горе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Замаскированное горе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53000" y="2235240"/>
          <a:ext cx="4033800" cy="334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3000" y="2235240"/>
                    <a:ext cx="4033800" cy="3346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534160" cy="10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ложненное горе  –  факторы риск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9040" y="2744280"/>
            <a:ext cx="7666200" cy="335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незапная или травматическая смерть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уицид, убийство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мерть ребенка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есколько потерь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ре, не признаваемое общество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отеря, не признаваемая открыто, или потеря, не признаваемая обществом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Группа риска — больные СПИДом партнеры, бывшие супруги, неродной родитель/ребенок, прерванная беременность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тское гор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83818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сновано на стадиях развития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ожет быть нормальным или осложненным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имптомы уникальны для детей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дии и задачи го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807696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ffff"/>
                </a:solidFill>
                <a:uFillTx/>
                <a:latin typeface="Arial"/>
              </a:rPr>
              <a:t>Стадия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1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ообщение и шок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ffff"/>
                </a:solidFill>
                <a:uFillTx/>
                <a:latin typeface="Arial"/>
              </a:rPr>
              <a:t>Стадия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2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Чувство потери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ffff"/>
                </a:solidFill>
                <a:uFillTx/>
                <a:latin typeface="Arial"/>
              </a:rPr>
              <a:t>Стадия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3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осстановлени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748800"/>
            <a:ext cx="84582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акторы, влияющие на процесс го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Личность человека, продолжающего жить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Навыки преодоления, модели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История злоупотребления алкоголем или наркотиками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Отношение к умершему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Вера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Вид смерти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f9f"/>
                </a:solidFill>
                <a:latin typeface="Arial"/>
              </a:rPr>
              <a:t>Этническая принадлежность и культура человека, продолжающего жить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ценка го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ачинается во время поступления в больницу или постановки диагноза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одолжается с целью выявления осложненного горя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ценка, проводимая медсестрой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5486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Вид гор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еакции, связанные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 горем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казывающие влияни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бщее состояние здоровья того, кто ухаживал/продолжает жить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ss et al.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320832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мешательство при тяжелой утрат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лан лечения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тношени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Традиции, свойственные конкретной культур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Что говорить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едчувствуемое гор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мешательство при тяжелой утрате, переживаемой детьм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родителям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853452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пределение стадии развития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аправление в группы поддержк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ре, потеря и тяжелая утрат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ациент, члены семьи и медсестра — все испытывают потер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ждый человек переживает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горе по-своему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еждисциплинарный подход к лечению жизненно важен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8680"/>
            <a:ext cx="7772400" cy="129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варительное вмешательство в процесс горя для пациента 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о семь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евентивные подходы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ля сведения чувства потери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 минимуму: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542880" indent="-231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оощрение воспоминаний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542880" indent="-231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освещение пациента/членов семьи относительно процесса умирания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542880" indent="-231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исутствие/активное выслушивание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мешательство в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цесс гор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868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пределение и выражение чувств –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их истор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собое внимание к горю, не признаваемому обществом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бщественные похороны, обряды, ритуалы, традиции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ефлекс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Духовная поддержка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Учет стадии развития у детей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аправление в группы поддержки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вершение процесса го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икто не может прогнозировать завершение.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абота с горем никогда не завершается полностью.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Исцеление происходит, когда боль стихает.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09880" cy="3362400"/>
          </a:xfrm>
          <a:prstGeom prst="rect">
            <a:avLst/>
          </a:prstGeom>
          <a:ln w="57240">
            <a:solidFill>
              <a:srgbClr val="24a6d4"/>
            </a:solidFill>
            <a:miter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вокупная поте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724280"/>
          </a:xfrm>
          <a:prstGeom prst="rect">
            <a:avLst/>
          </a:prstGeom>
          <a:ln cap="sq"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дии адаптаци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Медсестрам, которые впервые работают с умирающими, необходима эмоциональная и духовная адаптац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тадии адаптации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Логическое обоснование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моциональное выживание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прессия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моциональное возвращение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лубокое сострадание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Исполнитель»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per, 1994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акторы, влияющие на адаптацию медсестер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6197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офессиональное образовани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Личный опыт, связанный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о смертью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зменения в жизн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истема поддержк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hon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стемы поддержк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авновеси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ценка систем поддержк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уховная поддержка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освещение, касающееся лечения в конце жизн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тратегии заботы о себе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hon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Медсестринский уход не заканчивается со смертью пациента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отеря, горе и потребности, связанные с тяжелой утратой, должны быть оценены с помощью продолжительного вмешательства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Медсестры должны признавать и реагировать на собственное гор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Лечение должно проводиться медицинскими работниками, специализирующимися в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азличных сферах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324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Whitney Medium"/>
                <a:ea typeface="MS PGothic"/>
              </a:rPr>
              <a:t>Забота о теле и ду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оль медсестры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78168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цените гор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кажите поддержку пациенту, который испытывает горе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Поддержите тех, кто продолжает жить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10280" y="3809880"/>
            <a:ext cx="1739880" cy="184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ре как процесс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ачинается до наступления смерти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Не подчиняется определенному порядку и не предсказуемо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остоит из ряда стадий или задач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Еще никому не удалось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«полностью оправиться»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абота по облегчению горя позволяет жить, перенеся потерю</a:t>
            </a: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 et al., 2004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те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отерей может быть человек, вещь, взаимоотношения или ситуация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Горе — это эмоциональная реакция на потерю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корбь — это внешнее, социальное выражение потери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ильное влияние оказывает культура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яжелая утрат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еакция продолжающих жить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а смерть члена семьи или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близкого друга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сознавайте культурные особенности.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’Avanzo &amp; Geissler, 2003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06200"/>
            <a:ext cx="8381880" cy="6286680"/>
          </a:xfrm>
          <a:prstGeom prst="rect">
            <a:avLst/>
          </a:prstGeom>
          <a:ln w="38160">
            <a:solidFill>
              <a:srgbClr val="ffba75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иды гор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4080" y="2361960"/>
            <a:ext cx="78264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Горе до потери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Фактически произошедшая потеря или страх потенциально возможных потерь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Испытывается пациентом, членами семьи и медработниками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9f"/>
                </a:solidFill>
                <a:latin typeface="Arial"/>
              </a:rPr>
              <a:t>Дети имеют индивидуальные потребности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ss et al.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600200"/>
            <a:ext cx="594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ffff"/>
                </a:solidFill>
                <a:uFillTx/>
                <a:latin typeface="Arial"/>
              </a:rPr>
              <a:t>Предчувствуемое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льное горе (неосложненное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8200" y="2514240"/>
            <a:ext cx="78264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ормальные чувства, поведение и реакции в связи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 потерей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Физиологические, эмоциональные, когнитивные и поведенческие реакци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rvirani</cp:lastModifiedBy>
  <dcterms:modified xsi:type="dcterms:W3CDTF">2008-03-03T23:03:24Z</dcterms:modified>
  <cp:revision>20</cp:revision>
  <dc:subject/>
  <dc:title>Slide 1</dc:title>
</cp:coreProperties>
</file>