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4.png" ContentType="image/png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2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648320" y="6629400"/>
            <a:ext cx="4266720" cy="76320"/>
            <a:chOff x="4648320" y="6629400"/>
            <a:chExt cx="4266720" cy="76320"/>
          </a:xfrm>
        </p:grpSpPr>
        <p:sp>
          <p:nvSpPr>
            <p:cNvPr id="3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53434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03900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73416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430040" y="6629400"/>
              <a:ext cx="939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12340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8192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534348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22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94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808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90360"/>
            <a:ext cx="8244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3207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457200" y="5475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285920" y="6477120"/>
            <a:ext cx="289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ter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1680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19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61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03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295280"/>
            <a:ext cx="5638680" cy="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9360" y="909720"/>
            <a:ext cx="48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nd-of-Life Nursing Education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nternational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f9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37112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одул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5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657600" y="4800600"/>
            <a:ext cx="54864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Культурные аспекты, связные с лечением в конце жизни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29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Компоненты культурной оценк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514600"/>
            <a:ext cx="7626240" cy="307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ациент</a:t>
            </a:r>
            <a:r>
              <a:rPr b="1" lang="en-GB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/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емья</a:t>
            </a:r>
            <a:r>
              <a:rPr b="1" lang="en-GB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/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сообщ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Место рождения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Этническое отождествление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,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сообщ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Принятие реш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Язык и общение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мпоненты культурной оценки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должение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362320"/>
            <a:ext cx="7931160" cy="298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Религия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Кулинарные предпочтения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/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запре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Экономическое положение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Убеждения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,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касающиеся смерти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,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горя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,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боли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,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традиционной терапии и ухода за тел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2684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Самостоятельная оценка культуры медсестрой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860560"/>
            <a:ext cx="7626600" cy="148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Самостоятельная оценка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Культурные убеждения коллег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4114800"/>
            <a:ext cx="2286000" cy="2133720"/>
          </a:xfrm>
          <a:prstGeom prst="ellipse">
            <a:avLst/>
          </a:prstGeom>
          <a:solidFill>
            <a:srgbClr val="0099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705720" y="4267080"/>
            <a:ext cx="1739880" cy="184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60199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Monotype Corsiva"/>
                <a:ea typeface="ＭＳ Ｐゴシック"/>
              </a:rPr>
              <a:t>Протянуть 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Культурные аспекты общения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666880"/>
            <a:ext cx="7626240" cy="24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Услуги переводчика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Стиль ведения беседы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Личное простран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Зрительный контакт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705720" y="4952880"/>
            <a:ext cx="181440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ультурные аспекты общения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должение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84240" y="2514600"/>
            <a:ext cx="7778880" cy="24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Прикосновение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риентация во вре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Точка зрения специалистов </a:t>
            </a:r>
            <a:br>
              <a:rPr sz="3600"/>
            </a:b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в области здравоохра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Стили обучения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Роль семь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1960" y="2513160"/>
            <a:ext cx="7626240" cy="200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Кто принимает решения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Кто принимает участие </a:t>
            </a:r>
            <a:br>
              <a:rPr sz="3600"/>
            </a:b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в обсуждении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Приемлемо ли полное раскрытие информации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3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Влияние культуры на принятие решений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Убеждения, касающиеся автономности и других ценностей, бывают различными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Раскрытие диагноза и прогноза заболевания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Удостовериться в желании раскрытия информации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лова, используемые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отношении пациентов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конце жизни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590920"/>
            <a:ext cx="762624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«Прекраще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«Не проводить реанимацию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«Отмена/приостановка»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и столкновении культур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143000"/>
            <a:ext cx="6858000" cy="152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Происходят конфликты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Оценивайте свои реакции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Никогда не лги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Предоставляйте информац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Используйте </a:t>
            </a:r>
            <a:br>
              <a:rPr sz="3600"/>
            </a:b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переводчиков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105520" y="2495520"/>
          <a:ext cx="3581280" cy="26859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495520"/>
                    <a:ext cx="3581280" cy="2685960"/>
                  </a:xfrm>
                  <a:prstGeom prst="rect">
                    <a:avLst/>
                  </a:prstGeom>
                  <a:ln w="38160">
                    <a:solidFill>
                      <a:srgbClr val="0099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пределение культуры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362320"/>
            <a:ext cx="8534160" cy="217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Система общих симво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Обеспечивает защищенность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,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целостность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, 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принадлеж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Постоянно развивается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76320"/>
            <a:ext cx="8382240" cy="628632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Вывод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795320"/>
            <a:ext cx="8915400" cy="338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Культура оказывает значительное влияние на лечение в конце жиз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Самостоятельная оценка культуры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Многочисленные аспекты культуры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Лечение с учетом особенностей культу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Многопрофильное лечение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6400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Whitney Medium"/>
                <a:ea typeface="ＭＳ Ｐゴシック"/>
              </a:rPr>
              <a:t>Забота о теле и ду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Культурный контекст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308320"/>
            <a:ext cx="7626240" cy="287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Придает смысл болез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Не ограничен расовой или этнической принадлежность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Различные уровни состояния здоровь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Культурная компетентность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1960" y="2405160"/>
            <a:ext cx="7626240" cy="20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Компоненты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Важность междисциплинарного подхода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Культурная оценк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514600"/>
            <a:ext cx="5492880" cy="148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Атрибуты культу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Отличия внутри груп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00800" y="4276800"/>
            <a:ext cx="795240" cy="99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172200" y="3425760"/>
            <a:ext cx="990720" cy="927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164360" y="2828880"/>
            <a:ext cx="106524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315200" y="4200480"/>
            <a:ext cx="1062000" cy="113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518160" y="2448000"/>
            <a:ext cx="6447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630864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Monotype Corsiva"/>
                <a:ea typeface="ＭＳ Ｐゴシック"/>
              </a:rPr>
              <a:t>Прикосновение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Компоненты внутри культуры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070000"/>
            <a:ext cx="7010280" cy="37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Этническая </a:t>
            </a:r>
            <a:br>
              <a:rPr sz="3600"/>
            </a:b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принадлежность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Раса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Пол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Возраст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Религия и духов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Сексуальная ориен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00800" y="2286000"/>
            <a:ext cx="762120" cy="60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315200" y="3733920"/>
            <a:ext cx="838080" cy="66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477120" y="3809880"/>
            <a:ext cx="685800" cy="54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6324480" y="2971800"/>
            <a:ext cx="660600" cy="73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848720" y="2971800"/>
            <a:ext cx="596880" cy="608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7238880" y="2514600"/>
            <a:ext cx="493920" cy="950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8077320" y="3886200"/>
            <a:ext cx="672840" cy="1066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6477120" y="4443480"/>
            <a:ext cx="1447560" cy="814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7848720" y="1905120"/>
            <a:ext cx="528480" cy="911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630864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Whitney Medium"/>
                <a:ea typeface="ＭＳ Ｐゴシック"/>
              </a:rPr>
              <a:t>Наблюдающий взгляд от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2133720"/>
            <a:ext cx="7626600" cy="404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Различные способности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Финансовое положение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Занятость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Уровень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  <a:ea typeface="ＭＳ Ｐゴシック"/>
              </a:rPr>
              <a:t>Причина смерти</a:t>
            </a:r>
            <a:r>
              <a:rPr b="1" lang="ru-RU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мпоненты внутри культуры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должение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23:31Z</dcterms:created>
  <dc:creator>sdixson</dc:creator>
  <dc:description/>
  <dc:language>en-US</dc:language>
  <cp:lastModifiedBy>sdixson</cp:lastModifiedBy>
  <dcterms:modified xsi:type="dcterms:W3CDTF">2008-03-04T19:25:04Z</dcterms:modified>
  <cp:revision>10</cp:revision>
  <dc:subject/>
  <dc:title>Slide 1</dc:title>
</cp:coreProperties>
</file>