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png" ContentType="image/png"/>
  <Override PartName="/ppt/media/image17.png" ContentType="image/png"/>
  <Override PartName="/ppt/media/image16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648320" y="6629400"/>
            <a:ext cx="4266720" cy="76320"/>
            <a:chOff x="4648320" y="6629400"/>
            <a:chExt cx="4266720" cy="76320"/>
          </a:xfrm>
        </p:grpSpPr>
        <p:sp>
          <p:nvSpPr>
            <p:cNvPr id="3" name=""/>
            <p:cNvSpPr/>
            <p:nvPr/>
          </p:nvSpPr>
          <p:spPr>
            <a:xfrm flipV="1">
              <a:off x="4648320" y="6629400"/>
              <a:ext cx="936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5343480" y="6629400"/>
              <a:ext cx="957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6039000" y="6629400"/>
              <a:ext cx="918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>
              <a:off x="6734160" y="6629400"/>
              <a:ext cx="921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>
              <a:off x="7430040" y="6629400"/>
              <a:ext cx="939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>
              <a:off x="8123400" y="6629400"/>
              <a:ext cx="957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8819280" y="6629400"/>
              <a:ext cx="957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>
              <a:off x="4648320" y="6629400"/>
              <a:ext cx="936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5343480" y="6629400"/>
              <a:ext cx="918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1522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6094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380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10666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3808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457200" y="90360"/>
            <a:ext cx="82440" cy="8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320760"/>
            <a:ext cx="82440" cy="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457200" y="547560"/>
            <a:ext cx="82440" cy="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1285920" y="6477120"/>
            <a:ext cx="289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nternational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3504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41680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C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1192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2612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4032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5452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1295280"/>
            <a:ext cx="5638680" cy="0"/>
          </a:xfrm>
          <a:prstGeom prst="line">
            <a:avLst/>
          </a:prstGeom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39360" y="909720"/>
            <a:ext cx="48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End-of-Life Nursing Education Consor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1295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International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66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601"/>
              </a:spcBef>
              <a:buClr>
                <a:srgbClr val="ffcf9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9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cf9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5280" y="39398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Модуль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6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590920" y="503244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Общение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35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ультурные различия в общении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вязанные с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600200"/>
            <a:ext cx="6781680" cy="306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Сексуальной ориентацией;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религией;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возрастом;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этнической принадлежностью;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полом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принадлежностью </a:t>
            </a:r>
            <a:br>
              <a:rPr sz="3600"/>
            </a:b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к племени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.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489720" y="2666880"/>
            <a:ext cx="762120" cy="604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404120" y="4114800"/>
            <a:ext cx="838080" cy="665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6566040" y="4191120"/>
            <a:ext cx="685800" cy="544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6413400" y="3352680"/>
            <a:ext cx="660600" cy="739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7937640" y="3352680"/>
            <a:ext cx="596880" cy="608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7327800" y="2895480"/>
            <a:ext cx="493920" cy="951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8166240" y="4267080"/>
            <a:ext cx="672840" cy="1067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9"/>
          <a:stretch/>
        </p:blipFill>
        <p:spPr>
          <a:xfrm>
            <a:off x="6566040" y="4824360"/>
            <a:ext cx="1447560" cy="814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0"/>
          <a:stretch/>
        </p:blipFill>
        <p:spPr>
          <a:xfrm>
            <a:off x="7937640" y="2286000"/>
            <a:ext cx="528480" cy="911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1828800"/>
            <a:ext cx="7696080" cy="4191120"/>
          </a:xfrm>
          <a:prstGeom prst="rect">
            <a:avLst/>
          </a:prstGeom>
          <a:solidFill>
            <a:srgbClr val="66ffff"/>
          </a:solidFill>
          <a:ln cap="sq"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Как правильно слушать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84080" y="1901880"/>
          <a:ext cx="7431120" cy="3990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080" y="1901880"/>
                    <a:ext cx="7431120" cy="3990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7620120" y="6172200"/>
            <a:ext cx="1447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y,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нимательное выслушивание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1981080"/>
            <a:ext cx="7626240" cy="398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Призывайте их говорить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Молчите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Делитесь своими чувств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Избегайте недопонимания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ckman,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нимательное выслушивание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133720"/>
            <a:ext cx="7626240" cy="283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Не меняйте тему разговора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Не торопитесь, когда </a:t>
            </a:r>
            <a:br>
              <a:rPr sz="3600"/>
            </a:b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даете сов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Поощряйте воспомин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Создавайте взаимосвязи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09480" y="152280"/>
            <a:ext cx="7925040" cy="6245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8680"/>
            <a:ext cx="7772400" cy="74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рисутствие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Требует: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осознания уязвимости;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интуиции;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сочувствия;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ощущения значения момента;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спокойствия и тишины.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ley, 2002</a:t>
            </a: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35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Указания для стимулирования беседы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286000"/>
            <a:ext cx="8077320" cy="396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Создание соответствующей атмосферы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Хочет ли пациент/член семьи разговаривать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Внимательное выслушивание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hamel &amp; Dupris,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71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акторы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лияющие на общение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362320"/>
            <a:ext cx="8305920" cy="33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Изменения внутри семьи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Финансовая неопределенность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Физические огранич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Культурные особен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iedrichsen et al., 200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bow et al., 2004</a:t>
            </a:r>
            <a:r>
              <a:rPr b="1" lang="en-US" sz="20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9144000" cy="123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пециалисты в области здравоохранения оказывают влияние на результат общения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686800" cy="312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Отдавайте отчет своему поведению </a:t>
            </a:r>
            <a:br>
              <a:rPr sz="3200"/>
            </a:b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и стилю общения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Отсутствие личного опыта, связанного со смертью и умиранием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Страх перед незнанием ответа</a:t>
            </a: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Отсутствие понимания целей пациента и семьи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связанных с окончанием жизни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Языковые барьеры</a:t>
            </a: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68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стречи с семьей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Пациент может присутствовать</a:t>
            </a: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Члены семьи</a:t>
            </a: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Соответствующие врачи клиники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 (</a:t>
            </a: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лучше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если это будет основной лечащий врач наряду с персоналом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осуществляющим паллиативное лечение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)</a:t>
            </a: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Задача </a:t>
            </a:r>
            <a:r>
              <a:rPr b="1" lang="en-GB" sz="3200" spc="-1" strike="noStrike">
                <a:solidFill>
                  <a:srgbClr val="ffcf9f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ffcf9f"/>
                </a:solidFill>
                <a:latin typeface="Arial"/>
              </a:rPr>
              <a:t>расширение общения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68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бщение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219320"/>
            <a:ext cx="8229600" cy="487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Неизлечимая болезнь 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— 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это испытание для всей семь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Предоставление информации таким образом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, 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чтобы люди могли принимать осознанные реш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Требуется междисциплинарный подх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imberlin et al.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534520" cy="61419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18960" y="607680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986"/>
                </a:solidFill>
                <a:latin typeface="Whitney Medium"/>
              </a:rPr>
              <a:t>Плохие новости</a:t>
            </a:r>
            <a:r>
              <a:rPr b="0" lang="en-US" sz="2000" spc="-1" strike="noStrike">
                <a:solidFill>
                  <a:srgbClr val="008986"/>
                </a:solidFill>
                <a:latin typeface="Whitney Medium"/>
              </a:rPr>
              <a:t>… </a:t>
            </a:r>
            <a:r>
              <a:rPr b="0" lang="ru-RU" sz="2000" spc="-1" strike="noStrike">
                <a:solidFill>
                  <a:srgbClr val="008986"/>
                </a:solidFill>
                <a:latin typeface="Whitney Medium"/>
              </a:rPr>
              <a:t>разбивают серд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628200"/>
            <a:ext cx="8305920" cy="135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тратегии общения для ускорения принятия решений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вязанных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 окончанием жизни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2590560"/>
            <a:ext cx="7924680" cy="37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Будьте инициатором обсуждения вопросов, связанных с окончанием жизни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Используйте такие слова, как «смерть» и «умирание»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Сохраняйте надежду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Проясняйте преимущества </a:t>
            </a:r>
            <a:br>
              <a:rPr sz="3600"/>
            </a:b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и тяготы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бщение между членами коллектива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1905120"/>
            <a:ext cx="8153640" cy="284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Общение внутри коллектива крайне необходимо, особенно между дипломированной медсестрой и докторо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Должно происходить час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Фиксируйте документаль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Ожидайте возникновение конфликт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азрешение конфликта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1479600"/>
            <a:ext cx="8534520" cy="431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Попытайтесь отступить на шаг наза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Определите собственные эмо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Определите конфликт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Достигните соглашения в конфликте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Поговорите об э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Интересы пациента должны всегда быть на первом мест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ckman,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езюме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371600"/>
            <a:ext cx="8839080" cy="337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Общение является комплексным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Конечная цель 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— 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интересы пациен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Пациенты и члены 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их 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семьи должны быть вовлечены в процесс общ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Медсестра должна способствовать общению членов коллектива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, 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пациентов и сем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28600" y="6156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80"/>
                </a:solidFill>
                <a:latin typeface="Whitney Medium"/>
              </a:rPr>
              <a:t>Сотрудни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0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Факторы, препятствующие общению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560680"/>
            <a:ext cx="8229600" cy="353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Страх смерти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Отсутствие опыта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Сдерживание эмоций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Нечуткость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Чувство вины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019920" y="2819520"/>
            <a:ext cx="2484360" cy="2133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04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акторы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епятствующие общению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одолжение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Страх незнания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Несогласие с решениями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Отсутствие понимания культуры или целей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Личные проблемы, связанные </a:t>
            </a:r>
            <a:br>
              <a:rPr sz="3600"/>
            </a:b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с переживанием горя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Вопросы этики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Мифы, касающиеся общен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143000"/>
            <a:ext cx="8839080" cy="393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Общение происходит не спонтанн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Слова обозначают одно и то же и для говорящего, и для адреса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Вербальное общение является основны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Общение имеет односторонний характ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Нельзя предоставлять много информа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жидания пациента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ленов семьи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84872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Будьте честны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Выясняйте ценности </a:t>
            </a:r>
            <a:br>
              <a:rPr sz="3600"/>
            </a:b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и цели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Слаженное общение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Старайтесь </a:t>
            </a:r>
            <a:br>
              <a:rPr sz="3600"/>
            </a:b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выслушивать не спеша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yne &amp; Drew, 2002; Quill, 2000</a:t>
            </a: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781680" y="2209680"/>
            <a:ext cx="1722600" cy="2438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240" y="0"/>
            <a:ext cx="9140760" cy="646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35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ербальное и невербальное общение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2362320"/>
            <a:ext cx="7696440" cy="31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Включает язык телодвижений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, 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зрительный контакт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, 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жесты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, 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тон голос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80% 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общения происходит невербальн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sek,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68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бщение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778040"/>
            <a:ext cx="8686800" cy="426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Спросите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, 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как много хочет знать пациент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/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члены семь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Будьте инициатором встреч </a:t>
            </a:r>
            <a:br>
              <a:rPr sz="3600"/>
            </a:b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с семьей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Болезнь может укрепить или ослабить взаимоотнош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Стройте общение с детьми </a:t>
            </a:r>
            <a:br>
              <a:rPr sz="3600"/>
            </a:b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в соответствии с возрас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0:23:31Z</dcterms:created>
  <dc:creator>sdixson</dc:creator>
  <dc:description/>
  <dc:language>en-US</dc:language>
  <cp:lastModifiedBy>rvirani</cp:lastModifiedBy>
  <dcterms:modified xsi:type="dcterms:W3CDTF">2008-03-03T23:02:01Z</dcterms:modified>
  <cp:revision>15</cp:revision>
  <dc:subject/>
  <dc:title>Slide 1</dc:title>
</cp:coreProperties>
</file>