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EA6B-3B5D-4FF4-9C0A-26E7FF62E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to H &amp;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569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3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3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69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3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1295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ospicepiedmont.org/images/hospice_care_services.jpg&amp;imgrefurl=http://www.hospicepiedmont.org/index.php%3Fcontent%3Dhospice_care&amp;h=269&amp;w=296&amp;sz=62&amp;hl=en&amp;start=18&amp;tbnid=O88paip7UORrOM:&amp;tbnh=105&amp;tbnw=116&amp;prev=/images%3Fq%3DHospice%26gbv%3D2%26svnum%3D10%26hl%3Den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ospicesoky.org/_borders/Hospice%2520Logo.JPG&amp;imgrefurl=http://www.hospicesoky.org/donations.htm&amp;h=344&amp;w=382&amp;sz=54&amp;hl=en&amp;start=9&amp;tbnid=mQAhR02ZATn35M:&amp;tbnh=111&amp;tbnw=123&amp;prev=/images%3Fq%3DHospice%26gbv%3D2%26svnum%3D10%26hl%3Den%26sa%3D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Arial"/>
              </a:rPr>
              <a:t>Módulo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9880" y="5032440"/>
            <a:ext cx="5181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Cuidado Paliativo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16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Trayectorias de enfermedad/muerte, prolongación, muerte esperad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6172200"/>
            <a:ext cx="2514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unney et al.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3000" y="5043600"/>
            <a:ext cx="1346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10680" y="5889600"/>
            <a:ext cx="930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 rot="5400000">
            <a:off x="-719280" y="3315960"/>
            <a:ext cx="2905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Estad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98720" y="1881360"/>
            <a:ext cx="0" cy="40464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77840" y="5902200"/>
            <a:ext cx="7194600" cy="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95480" y="4017960"/>
            <a:ext cx="6360840" cy="1801800"/>
          </a:xfrm>
          <a:custGeom>
            <a:avLst/>
            <a:gdLst/>
            <a:ahLst/>
            <a:rect l="l" t="t" r="r" b="b"/>
            <a:pathLst>
              <a:path w="4007" h="1135">
                <a:moveTo>
                  <a:pt x="0" y="0"/>
                </a:moveTo>
                <a:cubicBezTo>
                  <a:pt x="167" y="25"/>
                  <a:pt x="335" y="50"/>
                  <a:pt x="424" y="118"/>
                </a:cubicBezTo>
                <a:cubicBezTo>
                  <a:pt x="513" y="186"/>
                  <a:pt x="459" y="364"/>
                  <a:pt x="534" y="406"/>
                </a:cubicBezTo>
                <a:cubicBezTo>
                  <a:pt x="609" y="448"/>
                  <a:pt x="788" y="337"/>
                  <a:pt x="873" y="372"/>
                </a:cubicBezTo>
                <a:cubicBezTo>
                  <a:pt x="958" y="407"/>
                  <a:pt x="954" y="585"/>
                  <a:pt x="1042" y="618"/>
                </a:cubicBezTo>
                <a:cubicBezTo>
                  <a:pt x="1130" y="651"/>
                  <a:pt x="1305" y="536"/>
                  <a:pt x="1398" y="567"/>
                </a:cubicBezTo>
                <a:cubicBezTo>
                  <a:pt x="1491" y="598"/>
                  <a:pt x="1532" y="749"/>
                  <a:pt x="1601" y="804"/>
                </a:cubicBezTo>
                <a:cubicBezTo>
                  <a:pt x="1670" y="859"/>
                  <a:pt x="1703" y="879"/>
                  <a:pt x="1813" y="897"/>
                </a:cubicBezTo>
                <a:cubicBezTo>
                  <a:pt x="1923" y="915"/>
                  <a:pt x="2139" y="896"/>
                  <a:pt x="2262" y="914"/>
                </a:cubicBezTo>
                <a:cubicBezTo>
                  <a:pt x="2385" y="932"/>
                  <a:pt x="2388" y="992"/>
                  <a:pt x="2550" y="1008"/>
                </a:cubicBezTo>
                <a:cubicBezTo>
                  <a:pt x="2712" y="1024"/>
                  <a:pt x="3077" y="1000"/>
                  <a:pt x="3236" y="1008"/>
                </a:cubicBezTo>
                <a:cubicBezTo>
                  <a:pt x="3395" y="1016"/>
                  <a:pt x="3411" y="1054"/>
                  <a:pt x="3507" y="1058"/>
                </a:cubicBezTo>
                <a:cubicBezTo>
                  <a:pt x="3603" y="1062"/>
                  <a:pt x="3729" y="1020"/>
                  <a:pt x="3812" y="1033"/>
                </a:cubicBezTo>
                <a:cubicBezTo>
                  <a:pt x="3895" y="1046"/>
                  <a:pt x="3958" y="1117"/>
                  <a:pt x="4007" y="1135"/>
                </a:cubicBezTo>
              </a:path>
            </a:pathLst>
          </a:custGeom>
          <a:noFill/>
          <a:ln w="38160">
            <a:solidFill>
              <a:srgbClr val="ffff99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0240" y="3289320"/>
            <a:ext cx="1779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cf9f"/>
                </a:solidFill>
                <a:uFillTx/>
                <a:latin typeface="Arial"/>
              </a:rPr>
              <a:t>De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Barreras para la atención de calidad al final de la vi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Imposibilidad de reconocer los límites</a:t>
            </a:r>
            <a:br>
              <a:rPr sz="3200"/>
            </a:b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de la medicin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Falta de capacitación de los proveedores de atención médica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No se comprenden bien los servicios </a:t>
            </a:r>
            <a:br>
              <a:rPr sz="3200"/>
            </a:b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de hospicio/paliativos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Reglas y normas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Falta de acceso a los opioides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Negación de la muerte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re et al., 2003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¿Qué es un hospicio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60400" y="1981080"/>
            <a:ext cx="41688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fini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Histor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¿Qué cuidado de hospicio hay disponible en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u país?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2286000"/>
            <a:ext cx="3048120" cy="2757600"/>
          </a:xfrm>
          <a:prstGeom prst="rect">
            <a:avLst/>
          </a:prstGeom>
          <a:ln w="28440">
            <a:solidFill>
              <a:srgbClr val="00d1cc"/>
            </a:solidFill>
            <a:miter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¿Qué es el cuidado paliativo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9200" y="2057040"/>
            <a:ext cx="4486320" cy="355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fini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Histor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¿Qué formas de cuidado paliativo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hay disponibles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n su país?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2284560"/>
            <a:ext cx="2971800" cy="2681280"/>
          </a:xfrm>
          <a:prstGeom prst="rect">
            <a:avLst/>
          </a:prstGeom>
          <a:ln w="28440">
            <a:solidFill>
              <a:srgbClr val="00d1cc"/>
            </a:solidFill>
            <a:miter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80680" y="151920"/>
            <a:ext cx="807732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l hospicio puede inclui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Atención interdisciplinari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Dispositivos y suministros médicos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Fármacos para el alivio de los síntomas y del dolor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Atención a corto plazo de pacientes internados y relevo del cuidador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Consejo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Atención espiritual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Servicios de voluntarios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75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f9f"/>
                </a:solidFill>
                <a:latin typeface="Arial"/>
              </a:rPr>
              <a:t>Servicios para el duelo</a:t>
            </a:r>
            <a:br>
              <a:rPr sz="3200"/>
            </a:br>
            <a:r>
              <a:rPr b="1" lang="en-US" sz="30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cf9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f9f"/>
                </a:solidFill>
                <a:latin typeface="Times New Roman"/>
              </a:rPr>
              <a:t>¿Qué brindan los hospicios en su país?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33320" y="3048120"/>
            <a:ext cx="4875480" cy="25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00bab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21400" y="3048120"/>
            <a:ext cx="1625400" cy="25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54720" y="3048120"/>
            <a:ext cx="406440" cy="251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01920" y="3962520"/>
            <a:ext cx="209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tamiento cu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08520" y="399564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idado pali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90040" y="4224240"/>
            <a:ext cx="1201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sp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3962520"/>
            <a:ext cx="430200" cy="255600"/>
          </a:xfrm>
          <a:prstGeom prst="line">
            <a:avLst/>
          </a:prstGeom>
          <a:ln w="38160">
            <a:solidFill>
              <a:srgbClr val="00d1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80880"/>
            <a:ext cx="8610480" cy="19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áctica actual de los hospicios y del cuidado paliativ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uidado paliativ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3120" y="5791320"/>
            <a:ext cx="437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Organización Mundial de la Salu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27880" y="2471760"/>
            <a:ext cx="6224760" cy="2446200"/>
          </a:xfrm>
          <a:prstGeom prst="rtTriangle">
            <a:avLst/>
          </a:prstGeom>
          <a:gradFill rotWithShape="0">
            <a:gsLst>
              <a:gs pos="0">
                <a:srgbClr val="ecdbfe"/>
              </a:gs>
              <a:gs pos="100000">
                <a:srgbClr val="e2c5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rot="10800000">
            <a:off x="266760" y="2418840"/>
            <a:ext cx="6224400" cy="2433960"/>
          </a:xfrm>
          <a:prstGeom prst="rtTriangle">
            <a:avLst/>
          </a:prstGeom>
          <a:gradFill rotWithShape="0">
            <a:gsLst>
              <a:gs pos="0">
                <a:srgbClr val="9dfefe"/>
              </a:gs>
              <a:gs pos="100000">
                <a:srgbClr val="66ffff"/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81800" y="2409840"/>
            <a:ext cx="2487600" cy="2502000"/>
          </a:xfrm>
          <a:prstGeom prst="rtTriangle">
            <a:avLst/>
          </a:prstGeom>
          <a:gradFill rotWithShape="0">
            <a:gsLst>
              <a:gs pos="0">
                <a:srgbClr val="ffcf9f"/>
              </a:gs>
              <a:gs pos="100000">
                <a:srgbClr val="fedfc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64960" y="2425320"/>
            <a:ext cx="6212160" cy="24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2438280"/>
            <a:ext cx="0" cy="247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1680" y="2422440"/>
            <a:ext cx="330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foque curativ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tamientos específico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as enfermed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8620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foque paliativ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tamientos para la comodidad/de apoy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54160" y="4114800"/>
            <a:ext cx="14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oy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2438280"/>
            <a:ext cx="4875120" cy="2514600"/>
          </a:xfrm>
          <a:prstGeom prst="rect">
            <a:avLst/>
          </a:prstGeom>
          <a:gradFill rotWithShape="0">
            <a:gsLst>
              <a:gs pos="0">
                <a:srgbClr val="8fffff"/>
              </a:gs>
              <a:gs pos="100000">
                <a:srgbClr val="8bc5ff"/>
              </a:gs>
            </a:gsLst>
            <a:lin ang="13500000"/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9800" y="2438280"/>
            <a:ext cx="1625760" cy="25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6840" y="2666880"/>
            <a:ext cx="32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tamiento para modificar la enferm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21360" y="3386160"/>
            <a:ext cx="16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 de hosp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2438280"/>
            <a:ext cx="2286000" cy="2514600"/>
          </a:xfrm>
          <a:prstGeom prst="rtTriangle">
            <a:avLst/>
          </a:prstGeom>
          <a:solidFill>
            <a:srgbClr val="ffcf9f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67640" y="41432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oyo de per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838080"/>
            <a:ext cx="8001000" cy="68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ntinuidad d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191120"/>
            <a:ext cx="23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idado pali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14200" y="2437920"/>
            <a:ext cx="6553440" cy="2514600"/>
          </a:xfrm>
          <a:prstGeom prst="line">
            <a:avLst/>
          </a:prstGeom>
          <a:ln w="1908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5029200"/>
            <a:ext cx="24382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ase terminal de la enferm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24800" y="213372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uer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74240" y="6004080"/>
            <a:ext cx="1358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QF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actiquemos: Un estudio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 cas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817640"/>
            <a:ext cx="8839080" cy="458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Hombre de 38 años con drepanoci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Tuvo un derrame cerebral hace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8 mes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Vive en un asil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xacerbaciones frecuentes de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olor durante los 6 meses pasados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(8 internaciones)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odelo de la calidad de vid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Bienestar físic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Bienestar psicológic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Bienestar soci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Bienestar espiritu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rrell et al., 1991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3124080" cy="22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stadísticas de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uerte – A nivel mundi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1148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2560" indent="-228600"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3160" y="1541520"/>
          <a:ext cx="8894520" cy="4387680"/>
        </p:xfrm>
        <a:graphic>
          <a:graphicData uri="http://schemas.openxmlformats.org/drawingml/2006/table">
            <a:tbl>
              <a:tblPr/>
              <a:tblGrid>
                <a:gridCol w="4935240"/>
                <a:gridCol w="2265480"/>
                <a:gridCol w="1693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rtes en millon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5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muertes</a:t>
                      </a:r>
                      <a:r>
                        <a:rPr b="1" lang="en-US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es cardíacas coron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rame cerebral y otras enfermedades cerebrovasculares</a:t>
                      </a:r>
                      <a:r>
                        <a:rPr b="1" lang="en-US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es de tráquea, bronquios, pulm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ciones respiratorias inferio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 pulmonar obstructiva cróni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es de colon y rec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de Alzheimer y otras demenci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es mellit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 del s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 de estómago</a:t>
                      </a:r>
                      <a:r>
                        <a:rPr b="1" lang="en-US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228600" y="109224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f9f"/>
                </a:solidFill>
                <a:latin typeface="Arial"/>
              </a:rPr>
              <a:t>Países de ingresos al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6095880"/>
            <a:ext cx="876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ación Mundial de la Salu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9320" y="76320"/>
            <a:ext cx="2819160" cy="274320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1e8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ís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pacidad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uerza/fat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eño y desca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áus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pet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eñ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76320"/>
            <a:ext cx="2743200" cy="274320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1e8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sic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s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cer/tiempo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gustia por d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e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gnición/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7200" y="2887560"/>
            <a:ext cx="2358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Whitney Medium"/>
              </a:rPr>
              <a:t>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429000"/>
            <a:ext cx="2819160" cy="274320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1e8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ga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ga para el cuid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les y re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fecto/función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pa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429000"/>
            <a:ext cx="2819520" cy="274320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1e8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per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fr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gnificado del d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ligio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rasc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06320" y="6172200"/>
            <a:ext cx="3757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apted from Ferrell et al.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8643800">
            <a:off x="5076720" y="26481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24a6d4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3837800">
            <a:off x="3657240" y="25905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24a6d4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8476200">
            <a:off x="3638160" y="3447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24a6d4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554200">
            <a:off x="5052600" y="34286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24a6d4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 conservación de la esperanza en medio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 la muer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rocesos experiencia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rocesos espiritua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rocesos relaciona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rocesos del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ensamiento racion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sek, 2006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9360"/>
            <a:ext cx="777240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Herramientas y recursos para el cuidado paliativ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8fffff"/>
                </a:solidFill>
                <a:uFillTx/>
                <a:latin typeface="Arial"/>
              </a:rPr>
              <a:t>Herramientas de evaluación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ct val="11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íntomas físico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íntomas emociona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piritualidad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alidad de v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sultados de los cuidador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233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  <a:p>
            <a:pPr marL="233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prc.coh.org</a:t>
            </a:r>
            <a:endParaRPr b="1" lang="en-US" sz="20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onóst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17440"/>
            <a:ext cx="8229600" cy="535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tado funcional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Arial"/>
              </a:rPr>
              <a:t>Factores deficientes de predicción: Karnofsky – ECOG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Síntomas múltiples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Marcadores biológicos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(por ej. albúmina)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¿Estaría sorprendido si este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aciente muriera dentro de los 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6 meses próximos?”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Lynn et al., 2000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04560" y="228600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lgunas cosas no pueden “arreglarse”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Uso de la presencia terapéutic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ómo mantener una perspectiva realist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3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ra la mejora del cuidado paliativ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486400" y="2895480"/>
            <a:ext cx="3276720" cy="2381400"/>
          </a:xfrm>
          <a:prstGeom prst="rect">
            <a:avLst/>
          </a:prstGeom>
          <a:ln w="57240">
            <a:solidFill>
              <a:srgbClr val="1e8bb2"/>
            </a:solidFill>
            <a:miter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ómo extender el cuidado paliativo en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istintos ámbi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6781680" cy="358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dentificacion principal de servicios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xpansión del concepto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de sanación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Recibir educación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flexiones finales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7524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447920"/>
            <a:ext cx="822960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l cuidado paliativo de calidad trata las inquietudes sobre la calidad de vid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Mayor conocimiento es esencial 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Estar con”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Importancia del enfoque interdisciplinario para el cuidado méd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52280" y="638496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cc"/>
                </a:solidFill>
                <a:latin typeface="Monotype Corsiva"/>
              </a:rPr>
              <a:t>Reconfortar siemp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stadísticas de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uerte – A nivel mundi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148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2560" indent="-228600"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3160" y="1541520"/>
          <a:ext cx="8894520" cy="4356000"/>
        </p:xfrm>
        <a:graphic>
          <a:graphicData uri="http://schemas.openxmlformats.org/drawingml/2006/table">
            <a:tbl>
              <a:tblPr/>
              <a:tblGrid>
                <a:gridCol w="4949640"/>
                <a:gridCol w="2268720"/>
                <a:gridCol w="167616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6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rtes en millones</a:t>
                      </a:r>
                      <a:r>
                        <a:rPr b="1" lang="en-US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6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muertes</a:t>
                      </a:r>
                      <a:r>
                        <a:rPr b="1" lang="en-US" sz="3200" spc="-1" strike="noStrike">
                          <a:solidFill>
                            <a:srgbClr val="ffcf9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rame cerebral y otras enfermedades cerebrovascula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es cardíacas coronari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 pulmonar obstructiva cróni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ciones respiratorias inferio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H/SID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ecciones perinatal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 de estómag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 de tráquea, bronquios y pulm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es de tránsi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 cardíaca hipertensiv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28600" y="106668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f9f"/>
                </a:solidFill>
                <a:latin typeface="Arial"/>
              </a:rPr>
              <a:t>Países de ingresos 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6019920"/>
            <a:ext cx="876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ación Mundial de la Salu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stadísticas de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uerte – A nivel mundi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3920" y="1541520"/>
          <a:ext cx="8891640" cy="4290840"/>
        </p:xfrm>
        <a:graphic>
          <a:graphicData uri="http://schemas.openxmlformats.org/drawingml/2006/table">
            <a:tbl>
              <a:tblPr/>
              <a:tblGrid>
                <a:gridCol w="4881600"/>
                <a:gridCol w="2398680"/>
                <a:gridCol w="161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ertes en millone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muer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13680">
                      <a:solidFill>
                        <a:srgbClr val="00d1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es cardíacas coronari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ciones respiratorias inferio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H/SID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ecciones perinatal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rame cerebral y otras enfermedades cerebrovascula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es diarreic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udism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berculosi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 pulmonar obstructiva cróni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dentes de tránsi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d1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d1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d1cc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228600" y="106668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f9f"/>
                </a:solidFill>
                <a:latin typeface="Arial"/>
              </a:rPr>
              <a:t>Países de ingresos ba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943600"/>
            <a:ext cx="876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ación Mundial de la Salu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¿Dónde se necesita el cuidado paliativo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103120"/>
            <a:ext cx="7086600" cy="34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Campo de batalla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Genocidi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Muertes a gran escala (gripe</a:t>
            </a:r>
            <a:br>
              <a:rPr sz="3600"/>
            </a:b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aviar y otras pandemias)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Paludismo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iferencias en la causa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de la muer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5029200" cy="14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f9f"/>
                </a:solidFill>
                <a:latin typeface="Arial"/>
              </a:rPr>
              <a:t>¿Cuáles son las diferencias en su país o comunidad?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64200" y="2335320"/>
            <a:ext cx="3979800" cy="452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649920" y="5222880"/>
            <a:ext cx="1346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880" y="5805360"/>
            <a:ext cx="99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Vi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 rot="5400000">
            <a:off x="1166040" y="3863160"/>
            <a:ext cx="306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Estad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84560" y="2986200"/>
            <a:ext cx="2870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76840" y="3584520"/>
            <a:ext cx="0" cy="2165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179880" y="5730480"/>
            <a:ext cx="3994200" cy="46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73400" y="2712960"/>
            <a:ext cx="4680" cy="304956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33960" y="2971800"/>
            <a:ext cx="549360" cy="620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76320"/>
            <a:ext cx="8610480" cy="15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Trayectorias de enfermedad/muerte, muerte súbita, causas inesperada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4920" y="6248520"/>
            <a:ext cx="240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eld &amp; Casse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7080" y="5411880"/>
            <a:ext cx="1346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3440" y="5958000"/>
            <a:ext cx="930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 rot="5400000">
            <a:off x="-581040" y="3943080"/>
            <a:ext cx="2905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Estad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28760" y="1909800"/>
            <a:ext cx="0" cy="40464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67200" y="6172200"/>
            <a:ext cx="240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eld &amp; Casse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27320" y="2379600"/>
            <a:ext cx="65880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67040" y="2386080"/>
            <a:ext cx="4924440" cy="35240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11120" y="5931000"/>
            <a:ext cx="6394680" cy="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52280"/>
            <a:ext cx="9144000" cy="184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Trayectorias de enfermedad/muerte, declinación constante, fase terminal brev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368280"/>
            <a:ext cx="8229600" cy="18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Trayectorias de enfermedad/muerte, declinación lenta, crisis periódicas, muer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25800">
            <a:off x="-262080" y="3333240"/>
            <a:ext cx="2905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Estad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6000" y="5638680"/>
            <a:ext cx="930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0560" y="4800600"/>
            <a:ext cx="1028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cf9f"/>
                </a:solidFill>
                <a:uFillTx/>
                <a:latin typeface="Arial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62360" y="5181480"/>
            <a:ext cx="1346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8320" y="3124080"/>
            <a:ext cx="189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cf9f"/>
                </a:solidFill>
                <a:uFillTx/>
                <a:latin typeface="Arial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981080"/>
            <a:ext cx="0" cy="358164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5562720"/>
            <a:ext cx="5943600" cy="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352680"/>
            <a:ext cx="380880" cy="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352680"/>
            <a:ext cx="152280" cy="60984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80920"/>
            <a:ext cx="152640" cy="38124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581280"/>
            <a:ext cx="533160" cy="7632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3657600"/>
            <a:ext cx="990360" cy="22860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67080" y="4114800"/>
            <a:ext cx="228600" cy="45720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3657600"/>
            <a:ext cx="76320" cy="6094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743200" y="3657240"/>
            <a:ext cx="304920" cy="6094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3886200"/>
            <a:ext cx="228600" cy="6858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1000" y="4119480"/>
            <a:ext cx="533520" cy="2286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4520" y="4348080"/>
            <a:ext cx="75960" cy="3812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00480" y="4424040"/>
            <a:ext cx="152640" cy="30492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3120" y="4424400"/>
            <a:ext cx="304560" cy="7632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57680" y="4500720"/>
            <a:ext cx="76320" cy="2286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67520" y="4653000"/>
            <a:ext cx="0" cy="9144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0320" y="4576680"/>
            <a:ext cx="457200" cy="7632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34000" y="4576680"/>
            <a:ext cx="76320" cy="1526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86320" y="6248520"/>
            <a:ext cx="240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eld &amp; Casse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angarcia</cp:lastModifiedBy>
  <dcterms:modified xsi:type="dcterms:W3CDTF">2008-12-09T16:56:10Z</dcterms:modified>
  <cp:revision>57</cp:revision>
  <dc:subject/>
  <dc:title>Slide 1</dc:title>
</cp:coreProperties>
</file>