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648320" y="6629400"/>
            <a:ext cx="4266720" cy="76320"/>
            <a:chOff x="4648320" y="6629400"/>
            <a:chExt cx="4266720" cy="76320"/>
          </a:xfrm>
        </p:grpSpPr>
        <p:sp>
          <p:nvSpPr>
            <p:cNvPr id="3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53434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03900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734160" y="6629400"/>
              <a:ext cx="921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430040" y="6629400"/>
              <a:ext cx="939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12340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819280" y="6629400"/>
              <a:ext cx="9576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4648320" y="6629400"/>
              <a:ext cx="936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5343480" y="6629400"/>
              <a:ext cx="91800" cy="76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94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80880" y="6516720"/>
            <a:ext cx="2700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285920" y="647712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ter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90360"/>
            <a:ext cx="8244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457200" y="3207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457200" y="547560"/>
            <a:ext cx="824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1680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19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61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03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138240"/>
            <a:ext cx="727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541ff"/>
                </a:solidFill>
                <a:latin typeface="Times New Roman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563868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9360" y="90972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nd-of-Life Nursing Educatio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1295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nternational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9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f9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666880" y="35809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Introduction to ELNEC International Curriculum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15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6308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Whitney Medium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ity of Hop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vious Researc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66294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Curriculum Survey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extbook Review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EOL Survey</a:t>
            </a:r>
            <a:endParaRPr b="1" lang="en-US" sz="3600" spc="-1" strike="noStrike">
              <a:solidFill>
                <a:srgbClr val="ffcf9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ef8"/>
                </a:solidFill>
                <a:latin typeface="Arial"/>
              </a:rPr>
              <a:t>American Association of Colleges of Nursing</a:t>
            </a:r>
            <a:endParaRPr b="1" lang="en-US" sz="4000" spc="-1" strike="noStrike">
              <a:solidFill>
                <a:srgbClr val="ffcf9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048120" cy="16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95280" y="4343400"/>
            <a:ext cx="6573960" cy="210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</a:t>
            </a:r>
            <a:br>
              <a:rPr sz="4000"/>
            </a:br>
            <a:r>
              <a:rPr b="1" lang="en-US" sz="4000" spc="-1" strike="noStrike">
                <a:solidFill>
                  <a:srgbClr val="00fef8"/>
                </a:solidFill>
                <a:latin typeface="Arial"/>
              </a:rPr>
              <a:t>City of Hope National Medical C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28600"/>
            <a:ext cx="79250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llaboration bet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NEC Modu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75040"/>
            <a:ext cx="8229600" cy="432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Module 1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Palliative Nursing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Module 2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Pai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Module 3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Sympt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Module 4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Ethical Issues in Palliative 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Care Nur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Module 5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Cultural Considerations </a:t>
            </a:r>
            <a:br>
              <a:rPr sz="3200"/>
            </a:b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at the End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NEC Modules (cont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495520"/>
            <a:ext cx="8016840" cy="28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Module 6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Module 7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Loss, Grief, Berea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Module 8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Final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Resource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Achieving Quality </a:t>
            </a:r>
            <a:br>
              <a:rPr sz="3200"/>
            </a:b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f9f"/>
                </a:solidFill>
                <a:latin typeface="Arial"/>
              </a:rPr>
              <a:t>Palli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mon Thread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038320"/>
            <a:ext cx="8686800" cy="31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e family as the unit of c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e important role of the nurse as advoc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e importance of culture as an influence at the end of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mon Threads (cont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676520"/>
            <a:ext cx="8534160" cy="44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The critical need for attention to special populations such as children and the elder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Palliative issues impact all systems of care across all sett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mon Threads (cont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006640"/>
            <a:ext cx="8305560" cy="363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Palliative care is not confined only to cancer or AIDS, but rather it is essential across all life threatening illnesses and in cases of sudden de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9f"/>
                </a:solidFill>
                <a:latin typeface="Arial"/>
              </a:rPr>
              <a:t>Interdisciplinary care is essential for quality care at the end of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ernational Dissemin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International Outreach listed on the ELNEC Website</a:t>
            </a:r>
            <a:endParaRPr b="1" lang="en-US" sz="3400" spc="-1" strike="noStrike">
              <a:solidFill>
                <a:srgbClr val="ffcf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a7"/>
                </a:solidFill>
                <a:latin typeface="Arial"/>
              </a:rPr>
              <a:t>Salzburg Institute, October 2006</a:t>
            </a:r>
            <a:br>
              <a:rPr sz="3400"/>
            </a:br>
            <a:r>
              <a:rPr b="1" lang="en-US" sz="3400" spc="-1" strike="noStrike">
                <a:solidFill>
                  <a:srgbClr val="ffcf9f"/>
                </a:solidFill>
                <a:latin typeface="Arial"/>
              </a:rPr>
              <a:t>ELNEC for Eastern European countries</a:t>
            </a:r>
            <a:endParaRPr b="1" lang="en-US" sz="3400" spc="-1" strike="noStrike">
              <a:solidFill>
                <a:srgbClr val="ffcf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a7"/>
                </a:solidFill>
                <a:latin typeface="Arial"/>
              </a:rPr>
              <a:t>Tanzania, Africa, June 2007</a:t>
            </a:r>
            <a:r>
              <a:rPr b="1" lang="en-US" sz="3400" spc="-1" strike="noStrike">
                <a:solidFill>
                  <a:srgbClr val="ffcf9f"/>
                </a:solidFill>
                <a:latin typeface="Arial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ffcf9f"/>
                </a:solidFill>
                <a:latin typeface="Arial"/>
              </a:rPr>
              <a:t>ELNEC for African countries</a:t>
            </a:r>
            <a:endParaRPr b="1" lang="en-US" sz="3400" spc="-1" strike="noStrike">
              <a:solidFill>
                <a:srgbClr val="ffcf9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1371600"/>
            <a:ext cx="4419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cf6"/>
                </a:solidFill>
                <a:uFillTx/>
                <a:latin typeface="Whitney Semibold"/>
              </a:rPr>
              <a:t>www.aacn.nche.edu/ELN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23:31Z</dcterms:created>
  <dc:creator>sdixson</dc:creator>
  <dc:description/>
  <dc:language>en-US</dc:language>
  <cp:lastModifiedBy>Administrator</cp:lastModifiedBy>
  <dcterms:modified xsi:type="dcterms:W3CDTF">2008-12-09T19:07:58Z</dcterms:modified>
  <cp:revision>19</cp:revision>
  <dc:subject/>
  <dc:title>Slide 1</dc:title>
</cp:coreProperties>
</file>