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4.png" ContentType="image/png"/>
  <Override PartName="/ppt/media/image22.png" ContentType="image/png"/>
  <Override PartName="/ppt/media/image4.wmf" ContentType="image/x-wmf"/>
  <Override PartName="/ppt/media/image21.wmf" ContentType="image/x-wmf"/>
  <Override PartName="/ppt/media/image19.wmf" ContentType="image/x-wmf"/>
  <Override PartName="/ppt/media/image2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7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648320" y="6629400"/>
            <a:ext cx="4266720" cy="76320"/>
            <a:chOff x="4648320" y="6629400"/>
            <a:chExt cx="4266720" cy="76320"/>
          </a:xfrm>
        </p:grpSpPr>
        <p:sp>
          <p:nvSpPr>
            <p:cNvPr id="3" name=""/>
            <p:cNvSpPr/>
            <p:nvPr/>
          </p:nvSpPr>
          <p:spPr>
            <a:xfrm flipV="1">
              <a:off x="4648320" y="6629400"/>
              <a:ext cx="936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5343480" y="6629400"/>
              <a:ext cx="957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6039000" y="6629400"/>
              <a:ext cx="918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>
              <a:off x="6734160" y="6629400"/>
              <a:ext cx="921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>
              <a:off x="7430040" y="6629400"/>
              <a:ext cx="939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>
              <a:off x="8123400" y="6629400"/>
              <a:ext cx="957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8819280" y="6629400"/>
              <a:ext cx="957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>
              <a:off x="4648320" y="6629400"/>
              <a:ext cx="936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5343480" y="6629400"/>
              <a:ext cx="918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1522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6094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380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10666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3808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457200" y="90360"/>
            <a:ext cx="82440" cy="8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320760"/>
            <a:ext cx="82440" cy="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457200" y="547560"/>
            <a:ext cx="82440" cy="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1285920" y="6477120"/>
            <a:ext cx="289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nternational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3504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41680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C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1192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2612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4032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5452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1295280"/>
            <a:ext cx="5638680" cy="0"/>
          </a:xfrm>
          <a:prstGeom prst="line">
            <a:avLst/>
          </a:prstGeom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39360" y="909720"/>
            <a:ext cx="48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End-of-Life Nursing Education Consor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1295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International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66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601"/>
              </a:spcBef>
              <a:buClr>
                <a:srgbClr val="ffcf9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9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cf9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5280" y="37112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Arial"/>
              </a:rPr>
              <a:t>Módulo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5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471840" y="4800600"/>
            <a:ext cx="567216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66ff"/>
                </a:solidFill>
                <a:latin typeface="Arial"/>
              </a:rPr>
              <a:t>Consideraciones culturales para la atención del final de la vida</a:t>
            </a:r>
            <a:r>
              <a:rPr b="1" lang="en-US" sz="3400" spc="-1" strike="noStrike">
                <a:solidFill>
                  <a:srgbClr val="0066ff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29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Componentes de la evaluación cultural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7920" y="2133720"/>
            <a:ext cx="755028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ducación del paciente/familia/ comun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8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ffff99"/>
                </a:solidFill>
                <a:latin typeface="Arial"/>
              </a:rPr>
              <a:t>Lugar de nacimiento</a:t>
            </a:r>
            <a:r>
              <a:rPr b="1" lang="en-US" sz="3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8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ffff99"/>
                </a:solidFill>
                <a:latin typeface="Arial"/>
              </a:rPr>
              <a:t>Identidad, comunidad étnica</a:t>
            </a:r>
            <a:r>
              <a:rPr b="1" lang="en-US" sz="3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8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ffff99"/>
                </a:solidFill>
                <a:latin typeface="Arial"/>
              </a:rPr>
              <a:t>Toma de decisi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8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ffff99"/>
                </a:solidFill>
                <a:latin typeface="Arial"/>
              </a:rPr>
              <a:t>Idioma y comunicació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35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Componentes de la evaluación cultural (cont.)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1905120"/>
            <a:ext cx="793116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Religión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Preferencias/prohibiciones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de alimentos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Situación económica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Creencias de la salud con respecto a la muerte, el duelo, el dolor, las terapias tradicionales, el cuidado del cuer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86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Auto evaluación de 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a cultura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860560"/>
            <a:ext cx="7626600" cy="171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Auto evaluac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Creencias culturales de los compañeros de trabaj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77120" y="4114800"/>
            <a:ext cx="2286000" cy="2133720"/>
          </a:xfrm>
          <a:prstGeom prst="ellipse">
            <a:avLst/>
          </a:prstGeom>
          <a:solidFill>
            <a:srgbClr val="0099cc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705720" y="4267080"/>
            <a:ext cx="1739880" cy="1841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8153280" cy="685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60199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f5f5f"/>
                </a:solidFill>
                <a:latin typeface="Monotype Corsiva"/>
              </a:rPr>
              <a:t>Conta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35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Consideraciones culturales de la comunicació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2666880"/>
            <a:ext cx="7626240" cy="24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Uso de intérpretes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stilo de la conversación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spacio personal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Contacto vis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705720" y="4952880"/>
            <a:ext cx="1814400" cy="1285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35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Consideraciones culturales de la comunicación (cont.)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84240" y="2286000"/>
            <a:ext cx="777888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Toque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Orientación con respecto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al tiempo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Visión de los profesionales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de la atención méd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stilos de aprendiza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Papel de la familia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31960" y="2209680"/>
            <a:ext cx="7626240" cy="304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¿Quién toma las decisiones?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¿Quién está incluido en 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las discusiones?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¿Es aceptable la divulgación total de la informació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3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Influencias culturales 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en la toma de decisione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666520"/>
            <a:ext cx="7772400" cy="34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Las creencias en la autonomía 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y otros valores son diferentes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Divulgación del diagnóstico 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y del pronóstico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Confirmar el deseo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de divulgación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enguaje utilizado al final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de la vida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2590920"/>
            <a:ext cx="7626240" cy="190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"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Discontinuación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No resucitar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(DNR, por sus siglas en inglés)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"Retirar/retener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Cuando se enfrentan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as cultura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3720" y="1981080"/>
            <a:ext cx="55962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Los enfrentamientos ocurren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valúe sus reacciones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No mienta nunca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Ofrezca informació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Use intérpret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867280" y="2209680"/>
          <a:ext cx="3048120" cy="2286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2209680"/>
                    <a:ext cx="3048120" cy="2286000"/>
                  </a:xfrm>
                  <a:prstGeom prst="rect">
                    <a:avLst/>
                  </a:prstGeom>
                  <a:ln w="38160">
                    <a:solidFill>
                      <a:srgbClr val="0099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Definición de cultur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2362320"/>
            <a:ext cx="8534160" cy="259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Sistema de símbolos compartidos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Brinda seguridad, integridad, pertenenc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voluciona constantemen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80880" y="76320"/>
            <a:ext cx="8382240" cy="6286320"/>
          </a:xfrm>
          <a:prstGeom prst="rect">
            <a:avLst/>
          </a:prstGeom>
          <a:ln w="57240">
            <a:solidFill>
              <a:srgbClr val="996633"/>
            </a:solidFill>
            <a:miter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Conclusió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1960" y="1600200"/>
            <a:ext cx="762624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La cultura es una influencia importante al final de la vida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Auto evaluación de la cultura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Distintas dimensiones de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la cultura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Atención médica que respeta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la cultura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Atención interdisciplin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640080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6699"/>
                </a:solidFill>
                <a:latin typeface="Whitney Medium"/>
              </a:rPr>
              <a:t>Cuidado del cuerpo y del al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Contexto cultura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308320"/>
            <a:ext cx="7626240" cy="287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Buscar el significado de 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la enfermedad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No se limita a la raza o etn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Discrepancias sobre la salu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Competencia cultural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0560" y="2405160"/>
            <a:ext cx="7626240" cy="201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Componentes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Importancia del enfoque interdisciplinar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Evaluación cultural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2514600"/>
            <a:ext cx="495288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Atributos culturales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Variación dentro de los grup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400800" y="4276800"/>
            <a:ext cx="795240" cy="990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172200" y="3425760"/>
            <a:ext cx="990720" cy="927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7164360" y="2828880"/>
            <a:ext cx="1065240" cy="1219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7315200" y="4200480"/>
            <a:ext cx="1062000" cy="1133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6518160" y="2448000"/>
            <a:ext cx="6447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28600" y="6308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f5f5f"/>
                </a:solidFill>
                <a:latin typeface="Monotype Corsiva"/>
              </a:rPr>
              <a:t>El toque de una m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68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Componentes dentro 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de la cultura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070000"/>
            <a:ext cx="6172200" cy="372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tnia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Raza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Sexo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dad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Religión y espiritualidad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Orientación sexual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400800" y="2286000"/>
            <a:ext cx="762120" cy="604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7315200" y="3733920"/>
            <a:ext cx="838080" cy="664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477120" y="3809880"/>
            <a:ext cx="685800" cy="544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6324480" y="2971800"/>
            <a:ext cx="660600" cy="73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7848720" y="2971800"/>
            <a:ext cx="596880" cy="608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7238880" y="2514600"/>
            <a:ext cx="493920" cy="9507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8077320" y="3886200"/>
            <a:ext cx="672840" cy="1066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9"/>
          <a:stretch/>
        </p:blipFill>
        <p:spPr>
          <a:xfrm>
            <a:off x="6553080" y="4443480"/>
            <a:ext cx="1447920" cy="814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0"/>
          <a:stretch/>
        </p:blipFill>
        <p:spPr>
          <a:xfrm>
            <a:off x="7848720" y="1905120"/>
            <a:ext cx="528480" cy="911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28600" y="630864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Whitney Medium"/>
              </a:rPr>
              <a:t>Vigilancia de p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36520" y="2133720"/>
            <a:ext cx="7626600" cy="404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Habilidades diferentes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Condición financiera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mpleo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Nivel educativo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Causa de la muer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15364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Componentes dentro 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de la cultura (cont.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0:23:31Z</dcterms:created>
  <dc:creator>sdixson</dc:creator>
  <dc:description/>
  <dc:language>en-US</dc:language>
  <cp:lastModifiedBy>WinuE</cp:lastModifiedBy>
  <dcterms:modified xsi:type="dcterms:W3CDTF">2008-11-17T20:45:35Z</dcterms:modified>
  <cp:revision>18</cp:revision>
  <dc:subject/>
  <dc:title>Slide 1</dc:title>
</cp:coreProperties>
</file>