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3.wmf" ContentType="image/x-wmf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7880"/>
            <a:ext cx="7272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7880"/>
            <a:ext cx="7272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7880"/>
            <a:ext cx="7272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7880"/>
            <a:ext cx="7272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7880"/>
            <a:ext cx="7272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45840" y="909720"/>
            <a:ext cx="4818240" cy="398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71124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71840" y="4800600"/>
            <a:ext cx="5672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Consideraciones culturales para la atención del final de la vid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onentes de la evaluación cultur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7920" y="2133720"/>
            <a:ext cx="7550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ducación del paciente/familia/ comun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Lugar de nacimiento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Identidad, comunidad étnic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Toma de decis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Idioma y comun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onentes de la evaluación cultural (cont.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905120"/>
            <a:ext cx="7931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lig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eferencias/prohibicione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aliment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reencias de la salud con respecto a la muerte, el duelo, el dolor, las terapias tradicionales, el cuidado del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uto evaluación de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860560"/>
            <a:ext cx="76266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uto evalu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reencias culturales de los compañeros de trabaj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114800"/>
            <a:ext cx="2286000" cy="2133720"/>
          </a:xfrm>
          <a:prstGeom prst="ellipse">
            <a:avLst/>
          </a:prstGeom>
          <a:solidFill>
            <a:srgbClr val="0099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1739880" cy="18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0199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Monotype Corsiva"/>
              </a:rPr>
              <a:t>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sideraciones culturales de la comunicació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666880"/>
            <a:ext cx="7626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so de intérpre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ilo de la convers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pacio pers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tacto vis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05720" y="4952880"/>
            <a:ext cx="18144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sideraciones culturales de la comunicación (cont.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4240" y="2286000"/>
            <a:ext cx="777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oqu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rientación con respec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 tiemp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isión de los profesionale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la atención méd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ilos de aprendiza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pel de la famili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209680"/>
            <a:ext cx="76262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ién toma las decision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ién está incluido en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s discusion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Es aceptable la divulgación total de la inform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fluencias culturales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n la toma de decision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s creencias en la autonomí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otros valores son diferen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vulgación del diagnóstico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del pronósti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firmar el dese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divulg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nguaje utilizado al final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vid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590920"/>
            <a:ext cx="7626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continu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resucitar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(DNR, por sus siglas en inglés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Retirar/rete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ando se enfrentan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 cultura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3720" y="1981080"/>
            <a:ext cx="559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enfrentamientos ocurr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alúe sus reacci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mienta nunc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frezca informació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se intérpre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867280" y="2209680"/>
          <a:ext cx="3048120" cy="228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9680"/>
                    <a:ext cx="3048120" cy="2286000"/>
                  </a:xfrm>
                  <a:prstGeom prst="rect">
                    <a:avLst/>
                  </a:prstGeom>
                  <a:ln w="381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finición de cultu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534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de símbolos compartid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inda seguridad, integridad, pertene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oluciona constantem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8382240" cy="628632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1960" y="1600200"/>
            <a:ext cx="762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ultura es una influencia importante al final de la v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uto evaluación de la cultur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intas dimensiones d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nción médica que respeta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nción interdisciplin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400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6699"/>
                </a:solidFill>
                <a:latin typeface="Whitney Medium"/>
              </a:rPr>
              <a:t>Cuidado del cuerpo y del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texto cultu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308320"/>
            <a:ext cx="76262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uscar el significado d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 enferme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 se limita a la raza o et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crepancias sobre la sal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etencia cultur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0560" y="2405160"/>
            <a:ext cx="76262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ponen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mportancia del enfoque interdisciplin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 cultur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51460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ributos cultur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ariación dentro de los gru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795240" cy="99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72200" y="3425760"/>
            <a:ext cx="99072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2828880"/>
            <a:ext cx="106524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15200" y="4200480"/>
            <a:ext cx="1062000" cy="11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518160" y="2448000"/>
            <a:ext cx="6447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Monotype Corsiva"/>
              </a:rPr>
              <a:t>El toque de una 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onentes dentro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cultur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70000"/>
            <a:ext cx="61722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tn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az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x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ligión y espirituali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rientación sexu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762120" cy="60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15200" y="3733920"/>
            <a:ext cx="838080" cy="66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24480" y="2971800"/>
            <a:ext cx="66060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848720" y="297180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238880" y="2514600"/>
            <a:ext cx="493920" cy="950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8077320" y="3886200"/>
            <a:ext cx="67284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553080" y="4443480"/>
            <a:ext cx="1447920" cy="814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848720" y="1905120"/>
            <a:ext cx="52848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6308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Whitney Medium"/>
              </a:rPr>
              <a:t>Vigilancia d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6520" y="2133720"/>
            <a:ext cx="76266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bilidades diferen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dición financier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mple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ivel educativ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usa de la muer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onentes dentro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cultura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ngarcia</cp:lastModifiedBy>
  <dcterms:modified xsi:type="dcterms:W3CDTF">2008-12-05T23:32:29Z</dcterms:modified>
  <cp:revision>21</cp:revision>
  <dc:subject/>
  <dc:title>Slide 1</dc:title>
</cp:coreProperties>
</file>