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939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6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90920" y="50324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Comunicación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iferencias culturales en la comunicación con respecto a los siguientes factores: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502000"/>
            <a:ext cx="4876560" cy="36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rientación sexu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lig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tn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x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ri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08840" y="2895480"/>
            <a:ext cx="761760" cy="60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23240" y="43434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184800" y="441972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032520" y="3581280"/>
            <a:ext cx="660240" cy="73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556400" y="358128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946920" y="3124080"/>
            <a:ext cx="493560" cy="951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785000" y="4495680"/>
            <a:ext cx="67320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184800" y="5052960"/>
            <a:ext cx="1447920" cy="8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7556400" y="2514600"/>
            <a:ext cx="52884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828800"/>
            <a:ext cx="7696080" cy="41911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sos para escucha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905120"/>
          <a:ext cx="7503840" cy="403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503840" cy="4035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086600" y="6172200"/>
            <a:ext cx="1447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y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cuchar atentamen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262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liente a que hable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Guarde silenci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mparta sus sentimient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ite los malentend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ckman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cuchar atentamen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7920" y="2133720"/>
            <a:ext cx="686448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cambie de tem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ómese su tiempo par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ar consej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omente los recuerd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ree leg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7925040" cy="624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esenci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678204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ffff"/>
                </a:solidFill>
                <a:latin typeface="Arial"/>
              </a:rPr>
              <a:t>Requiere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conocimiento de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vulnerabili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tui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mpatí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ar en el moment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renidad y silencio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ley, 2002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utas para alentar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convers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7920" y="2511360"/>
            <a:ext cx="7169400" cy="35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rear el ambiente adecuad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El paciente/la famili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sea hablar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cuchar atent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hamel &amp; Dupri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Factores que influyen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n la 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75438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mbios en el sistema d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famil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certidumbres financier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imitaciones físic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emas cultu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iedrichsen et al., 200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bow et al., 2004</a:t>
            </a:r>
            <a:r>
              <a:rPr b="1" lang="en-US" sz="20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14400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profesionales de la salud influyen en los resultados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de la 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Tenga conciencia de los comportamientos y del estilo de comunicación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alta de experiencia personal con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a muerte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Miedo a no saber la respuest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alta de comprensión de los objetivos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del paciente y su familia para el final de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la vid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Barreras idiomática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uniones familiar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paciente puede participa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iembros de la famil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línicos correspondiente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(es mejor si se incluye l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tención primaria y la paliativa)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bjetivo de mejorar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82296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enfermedad terminal es una experiencia famili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mpartir información para que los individuos puedan estar informados para tomar deci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quiere de colaboración interdisciplina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mberlin et al.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534520" cy="614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8960" y="6076800"/>
            <a:ext cx="57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4"/>
                </a:solidFill>
                <a:latin typeface="Whitney Medium"/>
              </a:rPr>
              <a:t>Dar las malas noticias… Romper un coraz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trategias de la comunicación para facilitar las decisiones del final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vid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815328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icie las conversaciones sobre el final de la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se palabras tales como “muerte” y “muriendo”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antenga la esperanz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clare los beneficios y carg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unicación en el equip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981080"/>
            <a:ext cx="815364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 dentro del equipo es vital, especialmente entre el enfermero y el médic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be ser frecu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ocumenta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pere conflict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6040"/>
            <a:ext cx="807732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ómo resolver los conflicto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523880"/>
            <a:ext cx="8534520" cy="49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é un paso hacia atrá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dentifique sus propias emocion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fina el conflict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usque un acuerdo para el conflict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able sobre el conflict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prioridad siempre deberá ser aquello que sea lo más conveniente para el pa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ckman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sume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600200"/>
            <a:ext cx="88390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 es complej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objetivo supremo es el mayor beneficio para el pacient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paciente y sus familias deben estar involucrados en la comunic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proveedor primario de salud fomenta la comunicación entre los miembros del equipo, los pacientes y las fami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6156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800080"/>
                </a:solidFill>
                <a:latin typeface="Whitney Medium"/>
              </a:rPr>
              <a:t>Colaboración</a:t>
            </a:r>
            <a:r>
              <a:rPr b="0" i="1" lang="en-US" sz="2000" spc="-1" strike="noStrike">
                <a:solidFill>
                  <a:srgbClr val="800080"/>
                </a:solidFill>
                <a:latin typeface="Whitney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1048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arreras para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560680"/>
            <a:ext cx="8229600" cy="35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iedo a la mortali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alta de experienc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itar la emo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sensibili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ntimiento de culp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484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10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arreras para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comunicación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iedo de no sabe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sacuerdo con las decision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Falta de comprensión de la cultura o de los objetiv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emas de pena person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quietudes ética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itos de la 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 es delibera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s palabras significan lo mismo para el emisor/recepto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 verbal es primar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omunicación tiene un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ola direc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se puede dar demasiada in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xpectativas del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ciente / de la familia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012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r honest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btener los valore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y objetiv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municación en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equip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omarse el tiempo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ara escucha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yne &amp; Drew, 2002; Quill, 2000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15424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46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unicación verbal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y no verbal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666880"/>
            <a:ext cx="7696440" cy="28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cluye el lenguaje del cuerpo,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contacto visual, los gestos,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tono de vo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80% de la comunicación e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ver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sek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unicació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84836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egunte cuánto desean saber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paciente/la famil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nicie reuniones familiar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enfermedad puede fortalecer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 debilitar las relacion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decue la comunicación con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s niños de acuerdo con la edad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l desarr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WinuE</cp:lastModifiedBy>
  <dcterms:modified xsi:type="dcterms:W3CDTF">2008-11-18T17:31:36Z</dcterms:modified>
  <cp:revision>21</cp:revision>
  <dc:subject/>
  <dc:title>Slide 1</dc:title>
</cp:coreProperties>
</file>