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648320" y="6629400"/>
            <a:ext cx="4266720" cy="76320"/>
            <a:chOff x="4648320" y="6629400"/>
            <a:chExt cx="4266720" cy="76320"/>
          </a:xfrm>
        </p:grpSpPr>
        <p:sp>
          <p:nvSpPr>
            <p:cNvPr id="3" name=""/>
            <p:cNvSpPr/>
            <p:nvPr/>
          </p:nvSpPr>
          <p:spPr>
            <a:xfrm flipV="1">
              <a:off x="4648320" y="6629400"/>
              <a:ext cx="936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5343480" y="6629400"/>
              <a:ext cx="957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6039000" y="6629400"/>
              <a:ext cx="918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>
              <a:off x="6734160" y="6629400"/>
              <a:ext cx="921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>
              <a:off x="7430040" y="6629400"/>
              <a:ext cx="939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>
              <a:off x="8123400" y="6629400"/>
              <a:ext cx="957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8819280" y="6629400"/>
              <a:ext cx="957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>
              <a:off x="4648320" y="6629400"/>
              <a:ext cx="936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5343480" y="6629400"/>
              <a:ext cx="918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1522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6094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380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10666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3808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457200" y="90360"/>
            <a:ext cx="82440" cy="8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320760"/>
            <a:ext cx="82440" cy="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457200" y="547560"/>
            <a:ext cx="82440" cy="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1285920" y="6477120"/>
            <a:ext cx="289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nternational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3504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41680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C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1192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2612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4032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5452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1295280"/>
            <a:ext cx="5638680" cy="0"/>
          </a:xfrm>
          <a:prstGeom prst="line">
            <a:avLst/>
          </a:prstGeom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39360" y="909720"/>
            <a:ext cx="48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End-of-Life Nursing Education Consort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1295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International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66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601"/>
              </a:spcBef>
              <a:buClr>
                <a:srgbClr val="ffcf9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9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cf9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5280" y="38858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Arial"/>
              </a:rPr>
              <a:t>Módulo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7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429000" y="5105520"/>
            <a:ext cx="55627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ff"/>
                </a:solidFill>
                <a:latin typeface="Arial"/>
              </a:rPr>
              <a:t>Pérdida y duelo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Duelo complicado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4722840" cy="385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ffcf9f"/>
                </a:solidFill>
                <a:latin typeface="Arial"/>
              </a:rPr>
              <a:t>Duelo crónico</a:t>
            </a:r>
            <a:r>
              <a:rPr b="1" lang="en-US" sz="34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ffcf9f"/>
                </a:solidFill>
                <a:latin typeface="Arial"/>
              </a:rPr>
              <a:t>Duelo retrasado</a:t>
            </a:r>
            <a:r>
              <a:rPr b="1" lang="en-US" sz="34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ffcf9f"/>
                </a:solidFill>
                <a:latin typeface="Arial"/>
              </a:rPr>
              <a:t>Duelo exagerado</a:t>
            </a:r>
            <a:r>
              <a:rPr b="1" lang="en-US" sz="34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ffcf9f"/>
                </a:solidFill>
                <a:latin typeface="Arial"/>
              </a:rPr>
              <a:t>Duelo enmascarado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971960" y="2235240"/>
          <a:ext cx="38671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71960" y="2235240"/>
                    <a:ext cx="3867120" cy="3208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73040"/>
            <a:ext cx="8534160" cy="135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Duelo complicado – Factores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de riesgo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2437920"/>
            <a:ext cx="766584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Muerte repentina o traumática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Suicidio, homicidio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Muerte de un niño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Pérdidas múltiples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1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a privación del duel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25040" cy="380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Cuando la pérdida no puede reconocerse abiertamente o es sancionada socialmente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Parejas con riesgo de SIDA,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x cónyuges, padrastros/hijastros, terminación de un embarazo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El duelo en los niño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2590560"/>
            <a:ext cx="7696440" cy="289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Se basa en las etapas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del desarrollo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Puede ser normal o complicado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Los síntomas son únicos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para cada niño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Etapas y tareas del duelo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8076960" cy="449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 u="sng">
                <a:solidFill>
                  <a:srgbClr val="66ffff"/>
                </a:solidFill>
                <a:uFillTx/>
                <a:latin typeface="Arial"/>
              </a:rPr>
              <a:t>Etapa</a:t>
            </a:r>
            <a:r>
              <a:rPr b="1" i="1" lang="en-US" sz="3600" spc="-1" strike="noStrike" u="sng">
                <a:solidFill>
                  <a:srgbClr val="66ffff"/>
                </a:solidFill>
                <a:uFillTx/>
                <a:latin typeface="Arial"/>
              </a:rPr>
              <a:t> 1</a:t>
            </a:r>
            <a:r>
              <a:rPr b="1" lang="en-US" sz="36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 </a:t>
            </a: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Notificación y conmoción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3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 u="sng">
                <a:solidFill>
                  <a:srgbClr val="66ffff"/>
                </a:solidFill>
                <a:uFillTx/>
                <a:latin typeface="Arial"/>
              </a:rPr>
              <a:t>Etapa</a:t>
            </a:r>
            <a:r>
              <a:rPr b="1" i="1" lang="en-US" sz="3600" spc="-1" strike="noStrike" u="sng">
                <a:solidFill>
                  <a:srgbClr val="66ffff"/>
                </a:solidFill>
                <a:uFillTx/>
                <a:latin typeface="Arial"/>
              </a:rPr>
              <a:t> 2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 </a:t>
            </a: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xperimentar la pérdida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3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 u="sng">
                <a:solidFill>
                  <a:srgbClr val="66ffff"/>
                </a:solidFill>
                <a:uFillTx/>
                <a:latin typeface="Arial"/>
              </a:rPr>
              <a:t>Etapa</a:t>
            </a:r>
            <a:r>
              <a:rPr b="1" i="1" lang="en-US" sz="3600" spc="-1" strike="noStrike" u="sng">
                <a:solidFill>
                  <a:srgbClr val="66ffff"/>
                </a:solidFill>
                <a:uFillTx/>
                <a:latin typeface="Arial"/>
              </a:rPr>
              <a:t> 3</a:t>
            </a:r>
            <a:r>
              <a:rPr b="1" lang="en-US" sz="36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 </a:t>
            </a: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Reintegración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35880" indent="0" algn="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  <a:p>
            <a:pPr marL="335880" indent="0" algn="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rless, 200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748800"/>
            <a:ext cx="8458200" cy="68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Factores que influyen en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el proceso del duelo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Personalidad del sobreviviente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Capacidades para enfrentar las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cosas, estructuras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Antecedentes de abuso de sustancias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Relación con la persona fallecida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Creencias espirituales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Tipo de muerte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tnia y cultura del sobreviviente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8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Evaluación del duelo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23888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Comienza en el momento de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la admisión o diagnóstico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Continua para detectar el duelo complicado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rless, 2006</a:t>
            </a: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4120"/>
            <a:ext cx="7772400" cy="68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Evaluación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2285640"/>
            <a:ext cx="558036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Tipo de duelo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Reacciones al duelo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Factores de influencia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Salud general del cuidador/sobreviviente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ass et al., 2006</a:t>
            </a: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954760" y="1905120"/>
            <a:ext cx="2968560" cy="3101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68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Intervenciones para el duelo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5790960" cy="32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Plan de atención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Actitud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Prácticas culturales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Qué decir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Duelo anticipado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35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Intervenciones para el duelo para los niños y padre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6629400" cy="266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Reconocer el estado 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del desarrollo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Hacer remisiones a grupos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de apoyo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Pérdida y duelo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7391520" cy="34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Todos, el paciente, la familia 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y los proveedores de atención médica sufren pérdidas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Cada persona vive el duelo 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a su modo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s vital hacer un enfoque interdisciplinario de atención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476280"/>
            <a:ext cx="8153640" cy="203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Intervenciones para el duelo anticipado para el paciente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y la familia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2705040"/>
            <a:ext cx="8305920" cy="369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nfoques preventivos para minimizar la sensación de pérdida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99"/>
                </a:solidFill>
                <a:latin typeface="Arial"/>
              </a:rPr>
              <a:t>Fomentar la revisión de la vida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99"/>
                </a:solidFill>
                <a:latin typeface="Arial"/>
              </a:rPr>
              <a:t>Educar al paciente/familia con respecto al proceso de la muerte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99"/>
                </a:solidFill>
                <a:latin typeface="Arial"/>
              </a:rPr>
              <a:t>Brindar presencia/escucha activa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001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Intervenciones para el duelo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81856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f9f"/>
                </a:solidFill>
                <a:latin typeface="Arial"/>
              </a:rPr>
              <a:t>Identificar y expresar los sentimientos – su historia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f9f"/>
                </a:solidFill>
                <a:latin typeface="Arial"/>
              </a:rPr>
              <a:t>Atención especial a la privación del duelo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18960" indent="-318960">
              <a:lnSpc>
                <a:spcPct val="85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f9f"/>
                </a:solidFill>
                <a:latin typeface="Arial"/>
              </a:rPr>
              <a:t>Funerales públicos, ritos, rituales, tradiciones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f9f"/>
                </a:solidFill>
                <a:latin typeface="Arial"/>
              </a:rPr>
              <a:t>Reflexión privada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f9f"/>
                </a:solidFill>
                <a:latin typeface="Arial"/>
              </a:rPr>
              <a:t>Atención espiritual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18960" indent="-318960">
              <a:lnSpc>
                <a:spcPct val="85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f9f"/>
                </a:solidFill>
                <a:latin typeface="Arial"/>
              </a:rPr>
              <a:t>Reconocer el estado del desarrollo de</a:t>
            </a:r>
            <a:br>
              <a:rPr sz="3200"/>
            </a:br>
            <a:r>
              <a:rPr b="1" lang="es-ES" sz="3200" spc="-1" strike="noStrike">
                <a:solidFill>
                  <a:srgbClr val="ffcf9f"/>
                </a:solidFill>
                <a:latin typeface="Arial"/>
              </a:rPr>
              <a:t>los niños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f9f"/>
                </a:solidFill>
                <a:latin typeface="Arial"/>
              </a:rPr>
              <a:t>Hacer remisiones a grupos de apoyo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Finalización del proceso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de duelo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472464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f9f"/>
                </a:solidFill>
                <a:latin typeface="Arial"/>
              </a:rPr>
              <a:t>Nadie puede predecir su finalización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f9f"/>
                </a:solidFill>
                <a:latin typeface="Arial"/>
              </a:rPr>
              <a:t>La elaboración del</a:t>
            </a:r>
            <a:br>
              <a:rPr sz="3200"/>
            </a:br>
            <a:r>
              <a:rPr b="1" lang="es-ES" sz="3200" spc="-1" strike="noStrike">
                <a:solidFill>
                  <a:srgbClr val="ffcf9f"/>
                </a:solidFill>
                <a:latin typeface="Arial"/>
              </a:rPr>
              <a:t>duelo nunca está completamente acabada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f9f"/>
                </a:solidFill>
                <a:latin typeface="Arial"/>
              </a:rPr>
              <a:t>La sanación ocurre cuando el dolor </a:t>
            </a:r>
            <a:br>
              <a:rPr sz="3200"/>
            </a:br>
            <a:r>
              <a:rPr b="1" lang="es-ES" sz="3200" spc="-1" strike="noStrike">
                <a:solidFill>
                  <a:srgbClr val="ffcf9f"/>
                </a:solidFill>
                <a:latin typeface="Arial"/>
              </a:rPr>
              <a:t>es menor</a:t>
            </a:r>
            <a:r>
              <a:rPr b="1" lang="en-US" sz="28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cf9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181480" y="2573280"/>
            <a:ext cx="3733920" cy="3294000"/>
          </a:xfrm>
          <a:prstGeom prst="rect">
            <a:avLst/>
          </a:prstGeom>
          <a:ln w="57240">
            <a:solidFill>
              <a:srgbClr val="24a6d4"/>
            </a:solidFill>
            <a:miter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Pérdida acumulativa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7467840" cy="4724280"/>
          </a:xfrm>
          <a:prstGeom prst="rect">
            <a:avLst/>
          </a:prstGeom>
          <a:ln cap="sq" w="57240">
            <a:solidFill>
              <a:srgbClr val="009999"/>
            </a:solidFill>
            <a:miter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74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Etapas de la adaptación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548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1000"/>
          </a:bodyPr>
          <a:p>
            <a:pPr marL="312120" indent="-312120">
              <a:lnSpc>
                <a:spcPct val="85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f9f"/>
                </a:solidFill>
                <a:latin typeface="Arial"/>
              </a:rPr>
              <a:t>Los profesionales de la salud que son nuevos en el trabajo con las personas moribundas necesitan una adaptación emocional</a:t>
            </a:r>
            <a:br>
              <a:rPr sz="3200"/>
            </a:br>
            <a:r>
              <a:rPr b="1" lang="es-ES" sz="3200" spc="-1" strike="noStrike">
                <a:solidFill>
                  <a:srgbClr val="ffcf9f"/>
                </a:solidFill>
                <a:latin typeface="Arial"/>
              </a:rPr>
              <a:t>y espiritual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f9f"/>
                </a:solidFill>
                <a:latin typeface="Arial"/>
              </a:rPr>
              <a:t>Etapas de la adaptación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1" marL="726480" indent="-31032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Arial"/>
              </a:rPr>
              <a:t>Intelectualización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26480" indent="-31032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Arial"/>
              </a:rPr>
              <a:t>Supervivencia emocional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26480" indent="-31032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Arial"/>
              </a:rPr>
              <a:t>Depresión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26480" indent="-31032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Arial"/>
              </a:rPr>
              <a:t>Llegada emocional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26480" indent="-31032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Arial"/>
              </a:rPr>
              <a:t>Compasión profunda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26480" indent="-31032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Arial"/>
              </a:rPr>
              <a:t>El “hacedor”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121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rper, 1994</a:t>
            </a: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135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Factores que influyen en la adaptación del proveedor de atención médica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19760" cy="373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Formación profesional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Antecedentes personales 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con la muerte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Cambios en la vida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Sistema de apoyo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chon, 2006</a:t>
            </a: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Sistemas de apoyo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792468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quilibrio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valuar los sistemas de apoyo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Apoyo espiritual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Formación para el cuidado del final de la vida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strategias para el cuidado de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sí mismo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chon, 2006</a:t>
            </a: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68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Conclusión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77320" cy="495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La atención no finaliza con la muerte de un paciente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La pérdida y el duelo necesitan ser evaluados con 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una intervención continua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Los proveedores de atención médica deben reconocer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y responder a su propio duelo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Brindar atención interdisciplinaria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632448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99"/>
                </a:solidFill>
                <a:latin typeface="Whitney Medium"/>
              </a:rPr>
              <a:t>El cuidado del cuerpo y del al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l papel del proveedor de atención médica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391520" cy="190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valuar el duelo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Asistir al paciente con el duelo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Dar apoyo a los sobrevivientes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705720" y="3962520"/>
            <a:ext cx="1739880" cy="18414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El proceso del duel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8188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Comienza antes de la muerte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No tiene un orden ni es predecible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Incluye una serie de etapas o tareas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Nadie “lo supera”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l trabajo de elaborar el duelo es aprender a vivir con la pérdida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n et al., 2004</a:t>
            </a: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68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a pérdida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46280"/>
            <a:ext cx="84582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Una pérdida puede ser una persona, cosa, relación o situación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l duelo es una respuesta emocional a la pérdida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l luto es la expresión exterior, social de la pérdida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stá influido fuertemente por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la cultura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258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rless, 2006</a:t>
            </a: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4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Duelo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1976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s la reacción del sobreviviente ante la muerte de un miembro de la familia o amigo cercano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Tenga conciencia de las características culturales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’Avanzo &amp; Geissler, 2003</a:t>
            </a: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" y="106200"/>
            <a:ext cx="8381880" cy="6286680"/>
          </a:xfrm>
          <a:prstGeom prst="rect">
            <a:avLst/>
          </a:prstGeom>
          <a:ln w="38160">
            <a:solidFill>
              <a:srgbClr val="ffba75"/>
            </a:solidFill>
            <a:miter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68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Tipos de duelo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83720" y="2286000"/>
            <a:ext cx="7216920" cy="377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Duelo antes de la pérdida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Pérdidas reales o miedo a 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pérdidas potenciales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Lo experimentan el paciente, 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la familia y los profesionales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Los niños tienen necesidades únicas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27432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lass et al., 2006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600200"/>
            <a:ext cx="5181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66ffff"/>
                </a:solidFill>
                <a:uFillTx/>
                <a:latin typeface="Arial"/>
              </a:rPr>
              <a:t>Duelo anticipa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Duelo normal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(sin complicaciones)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8200" y="2514240"/>
            <a:ext cx="7826400" cy="33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Sentimientos, comportamientos y reacciones normales ante 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la pérdida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Reacciones físicas, emocionales, cognitivas y del comportamiento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0:23:31Z</dcterms:created>
  <dc:creator>sdixson</dc:creator>
  <dc:description/>
  <dc:language>en-US</dc:language>
  <cp:lastModifiedBy>WinuE</cp:lastModifiedBy>
  <dcterms:modified xsi:type="dcterms:W3CDTF">2008-11-18T18:08:15Z</dcterms:modified>
  <cp:revision>31</cp:revision>
  <dc:subject/>
  <dc:title>Slide 1</dc:title>
</cp:coreProperties>
</file>