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3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3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48320" y="6629400"/>
            <a:ext cx="4266720" cy="76320"/>
            <a:chOff x="4648320" y="6629400"/>
            <a:chExt cx="4266720" cy="76320"/>
          </a:xfrm>
        </p:grpSpPr>
        <p:sp>
          <p:nvSpPr>
            <p:cNvPr id="3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53434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430040" y="6629400"/>
              <a:ext cx="939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12340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8192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534348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2859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1680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19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61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03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56386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9360" y="90972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d-of-Life Nursing Educatio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1295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spicepiedmont.org/images/hospice_care_services.jpg&amp;imgrefurl=http://www.hospicepiedmont.org/index.php%3Fcontent%3Dhospice_care&amp;h=269&amp;w=296&amp;sz=62&amp;hl=en&amp;start=18&amp;tbnid=O88paip7UORrOM:&amp;tbnh=105&amp;tbnw=116&amp;prev=/images%3Fq%3DHospice%26gbv%3D2%26svnum%3D10%26hl%3Den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spicesoky.org/_borders/Hospice%2520Logo.JPG&amp;imgrefurl=http://www.hospicesoky.org/donations.htm&amp;h=344&amp;w=382&amp;sz=54&amp;hl=en&amp;start=9&amp;tbnid=mQAhR02ZATn35M:&amp;tbnh=111&amp;tbnw=123&amp;prev=/images%3Fq%3DHospice%26gbv%3D2%26svnum%3D10%26hl%3Den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ódul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809880" y="5032440"/>
            <a:ext cx="5181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ención de Enfermería Paliativ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ayectorias de enfermedad/muerte, prolongación, muerte esperad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6172200"/>
            <a:ext cx="251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nney et al.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3000" y="50436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10680" y="588960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 rot="5400000">
            <a:off x="-719280" y="331596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ad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98720" y="1881360"/>
            <a:ext cx="0" cy="404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77840" y="5902200"/>
            <a:ext cx="7194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95480" y="4017960"/>
            <a:ext cx="6360840" cy="1801800"/>
          </a:xfrm>
          <a:custGeom>
            <a:avLst/>
            <a:gdLst/>
            <a:ahLst/>
            <a:rect l="l" t="t" r="r" b="b"/>
            <a:pathLst>
              <a:path w="4007" h="1135">
                <a:moveTo>
                  <a:pt x="0" y="0"/>
                </a:moveTo>
                <a:cubicBezTo>
                  <a:pt x="167" y="25"/>
                  <a:pt x="335" y="50"/>
                  <a:pt x="424" y="118"/>
                </a:cubicBezTo>
                <a:cubicBezTo>
                  <a:pt x="513" y="186"/>
                  <a:pt x="459" y="364"/>
                  <a:pt x="534" y="406"/>
                </a:cubicBezTo>
                <a:cubicBezTo>
                  <a:pt x="609" y="448"/>
                  <a:pt x="788" y="337"/>
                  <a:pt x="873" y="372"/>
                </a:cubicBezTo>
                <a:cubicBezTo>
                  <a:pt x="958" y="407"/>
                  <a:pt x="954" y="585"/>
                  <a:pt x="1042" y="618"/>
                </a:cubicBezTo>
                <a:cubicBezTo>
                  <a:pt x="1130" y="651"/>
                  <a:pt x="1305" y="536"/>
                  <a:pt x="1398" y="567"/>
                </a:cubicBezTo>
                <a:cubicBezTo>
                  <a:pt x="1491" y="598"/>
                  <a:pt x="1532" y="749"/>
                  <a:pt x="1601" y="804"/>
                </a:cubicBezTo>
                <a:cubicBezTo>
                  <a:pt x="1670" y="859"/>
                  <a:pt x="1703" y="879"/>
                  <a:pt x="1813" y="897"/>
                </a:cubicBezTo>
                <a:cubicBezTo>
                  <a:pt x="1923" y="915"/>
                  <a:pt x="2139" y="896"/>
                  <a:pt x="2262" y="914"/>
                </a:cubicBezTo>
                <a:cubicBezTo>
                  <a:pt x="2385" y="932"/>
                  <a:pt x="2388" y="992"/>
                  <a:pt x="2550" y="1008"/>
                </a:cubicBezTo>
                <a:cubicBezTo>
                  <a:pt x="2712" y="1024"/>
                  <a:pt x="3077" y="1000"/>
                  <a:pt x="3236" y="1008"/>
                </a:cubicBezTo>
                <a:cubicBezTo>
                  <a:pt x="3395" y="1016"/>
                  <a:pt x="3411" y="1054"/>
                  <a:pt x="3507" y="1058"/>
                </a:cubicBezTo>
                <a:cubicBezTo>
                  <a:pt x="3603" y="1062"/>
                  <a:pt x="3729" y="1020"/>
                  <a:pt x="3812" y="1033"/>
                </a:cubicBezTo>
                <a:cubicBezTo>
                  <a:pt x="3895" y="1046"/>
                  <a:pt x="3958" y="1117"/>
                  <a:pt x="4007" y="11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0240" y="328932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De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Barreras para la atención de calidad al final de la vid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mposibilidad de reconocer los límites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 la medici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alta de capacitación de los proveedores de atención médic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o se comprenden bien los servicios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 hospicio/paliativ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las y norm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alta de acceso a los opio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ación de la muer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re et al.,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es un hospicio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60400" y="1981080"/>
            <a:ext cx="4168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istor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Qué cuidado de hospicio hay disponible en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u paí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286000"/>
            <a:ext cx="3048120" cy="2757600"/>
          </a:xfrm>
          <a:prstGeom prst="rect">
            <a:avLst/>
          </a:prstGeom>
          <a:ln w="28440">
            <a:solidFill>
              <a:srgbClr val="00d1cc"/>
            </a:solidFill>
            <a:miter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es el cuidado paliativo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9200" y="2057040"/>
            <a:ext cx="4486320" cy="355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istor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Qué formas de cuidado paliativo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ay disponible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n su país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84560"/>
            <a:ext cx="2971800" cy="26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80680" y="151920"/>
            <a:ext cx="80773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l hospicio puede inclui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tención interdisciplinar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ispositivos y suministros médic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ármacos para el alivio de los síntomas y del dol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tención a corto plazo de pacientes internados y relevo del cuidad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sej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tención espiritu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rvicios de voluntari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rvicios para el duelo</a:t>
            </a:r>
            <a:br>
              <a:rPr sz="32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¿Qué brindan los hospicios en su país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33320" y="3048120"/>
            <a:ext cx="487548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21400" y="3048120"/>
            <a:ext cx="1625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54720" y="3048120"/>
            <a:ext cx="40644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01920" y="3962520"/>
            <a:ext cx="209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tamiento cu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08520" y="399564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idado pali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90040" y="42242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sp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96080" y="3962520"/>
            <a:ext cx="430200" cy="255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80880"/>
            <a:ext cx="8610480" cy="19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áctica actual de los hospicios y del cuidado pali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2438280"/>
            <a:ext cx="647676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2438280"/>
            <a:ext cx="2286000" cy="2514600"/>
          </a:xfrm>
          <a:prstGeom prst="rtTriangl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838080"/>
            <a:ext cx="8001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idado pali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14200" y="2437920"/>
            <a:ext cx="6553440" cy="251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666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foque curativ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tamientos específico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las enfermeda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4038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foque paliativ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tamientos para la comodidad/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oy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8640" y="609588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ganización Mundial de la Salu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2438280"/>
            <a:ext cx="487512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49800" y="2438280"/>
            <a:ext cx="162576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6840" y="2666880"/>
            <a:ext cx="32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tamiento para modificar la enferm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352680"/>
            <a:ext cx="16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ención de hosp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81680" y="2438280"/>
            <a:ext cx="2286000" cy="2514600"/>
          </a:xfrm>
          <a:prstGeom prst="rtTriangl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67640" y="414324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poyo de per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838080"/>
            <a:ext cx="8001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ntinuidad del cuid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66880" y="4191120"/>
            <a:ext cx="23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idado pali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14200" y="2437920"/>
            <a:ext cx="6553440" cy="25146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50292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terminal de la enferm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24800" y="2133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er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74240" y="600408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QF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actiquemos: Un estudio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 cas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817640"/>
            <a:ext cx="8839080" cy="458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ombre de 38 años con drepanoci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uvo un derrame cerebral hace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8 mes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Vive en un asil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xacerbaciones frecuentes de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olor durante los 6 meses pasados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(8 internaciones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odelo de la calidad de vida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ienestar físic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ienestar psicológic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ienestar soci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ienestar espiritu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rell et al., 199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3124080" cy="22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tadísticas de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uerte – A nivel mundi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1148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2560" indent="-228600"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3160" y="1541520"/>
          <a:ext cx="8894520" cy="4387680"/>
        </p:xfrm>
        <a:graphic>
          <a:graphicData uri="http://schemas.openxmlformats.org/drawingml/2006/table">
            <a:tbl>
              <a:tblPr/>
              <a:tblGrid>
                <a:gridCol w="4935240"/>
                <a:gridCol w="2265480"/>
                <a:gridCol w="1693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ertes en millon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5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muertes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es cardíacas coron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rame cerebral y otras enfermedades cerebrovasculares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es de tráquea, bronquios, pulmó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ciones respiratorias inferio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 pulmonar obstructiva cróni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es de colon y rec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 de Alzheimer y otras demenci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es mellit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 del se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 de estómago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28600" y="10922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íses de ingresos al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60958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ganización Mundial de la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19320" y="76320"/>
            <a:ext cx="2819160" cy="274320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ís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pacidad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uerza/fat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eño y desca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áus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pet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eñ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76320"/>
            <a:ext cx="2743200" cy="274320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sic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ns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cer/tiempo 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ngustia por d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e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i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gnición/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6480" y="288756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hitney Medium"/>
              </a:rPr>
              <a:t>Calidad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3429000"/>
            <a:ext cx="2819160" cy="274320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rga finan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rga para el cuid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les y re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fecto/función sex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par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3429000"/>
            <a:ext cx="2819520" cy="274320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per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fr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gnificado del d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ligio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rasc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06320" y="617220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pted from Ferrell et al.,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8643800">
            <a:off x="5076720" y="26481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3837800">
            <a:off x="3657240" y="25905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8476200">
            <a:off x="3638160" y="3447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2554200">
            <a:off x="5052600" y="342864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 conservación de la esperanza en medio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 la muer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cesos experiencia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cesos espiritua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cesos relaciona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cesos del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ensamiento racion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sek, 200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9360"/>
            <a:ext cx="77724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Herramientas y recursos para el cuidado paliativ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Herramientas de evalu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íntomas físico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íntomas emociona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piritualid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lidad de vid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ultados de los cuidador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prc.coh.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nóstic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17440"/>
            <a:ext cx="8229600" cy="535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tado funcion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actores deficientes de predicción: Karnofsky – ECO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íntomas múltip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arcadores biológico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(por ej. albúmina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Estaría sorprendido si este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aciente muriera dentro de lo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6 meses próximos?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ynn et al., 20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04560" y="2286000"/>
            <a:ext cx="51814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lgunas cosas no pueden “arreglarse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Uso de la presencia terapéutic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ómo mantener una perspectiva realist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ara la mejora del cuidado paliativ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276720" cy="238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ómo extender el cuidado paliativo en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istintos ámbito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6781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dentificacion principal de servici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xpansión del concepto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sana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cibir educac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flexiones finales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7524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4479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cuidado paliativo de calidad trata las inquietudes sobre la calidad de vid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ayor conocimiento es ese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tar con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mportancia del enfoque interdisciplinario para el cuidado méd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52280" y="638496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cc"/>
                </a:solidFill>
                <a:latin typeface="Monotype Corsiva"/>
              </a:rPr>
              <a:t>Reconfortar siemp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tadísticas de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uerte – A nivel mundi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1148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2560" indent="-228600"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3160" y="1541520"/>
          <a:ext cx="8894520" cy="4356000"/>
        </p:xfrm>
        <a:graphic>
          <a:graphicData uri="http://schemas.openxmlformats.org/drawingml/2006/table">
            <a:tbl>
              <a:tblPr/>
              <a:tblGrid>
                <a:gridCol w="4949640"/>
                <a:gridCol w="2268720"/>
                <a:gridCol w="167616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ertes en millones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6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muertes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rame cerebral y otras enfermedades cerebrovascula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es cardíacas coronari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 pulmonar obstructiva cróni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ciones respiratorias inferio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H/SID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ecciones perinatal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 de estómag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 de tráquea, bronquios y pulmó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dentes de tránsi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 cardíaca hipertensiv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28600" y="1066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íses de ingresos 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60199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ganización Mundial de la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tadísticas de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uerte – A nivel mundi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3920" y="1541520"/>
          <a:ext cx="8891640" cy="4290840"/>
        </p:xfrm>
        <a:graphic>
          <a:graphicData uri="http://schemas.openxmlformats.org/drawingml/2006/table">
            <a:tbl>
              <a:tblPr/>
              <a:tblGrid>
                <a:gridCol w="4881600"/>
                <a:gridCol w="2398680"/>
                <a:gridCol w="161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ertes en millone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muer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es cardíacas coronari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ciones respiratorias inferio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H/SID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ecciones perinatal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rame cerebral y otras enfermedades cerebrovascula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es diarreic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udism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berculosi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 pulmonar obstructiva cróni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dentes de tránsi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28600" y="1066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íses de ingresos ba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943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ganización Mundial de la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Dónde se necesita el cuidado paliativo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103120"/>
            <a:ext cx="7086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mpo de batall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enocidi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uertes a gran escala (gripe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viar y otras pandemias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aludism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iferencias en la caus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 la muert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50292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Cuáles son las diferencias en su país o comunidad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64200" y="2335320"/>
            <a:ext cx="3979800" cy="452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649920" y="52228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8880" y="580536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 rot="5400000">
            <a:off x="1166040" y="3863160"/>
            <a:ext cx="30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ad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84560" y="2986200"/>
            <a:ext cx="287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76840" y="3584520"/>
            <a:ext cx="0" cy="21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79880" y="5730480"/>
            <a:ext cx="399420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3400" y="2712960"/>
            <a:ext cx="4680" cy="3049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33960" y="2971800"/>
            <a:ext cx="549360" cy="62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76320"/>
            <a:ext cx="86104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ayectorias de enfermedad/muerte, muerte súbita, causas inesperada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14920" y="624852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 &amp; Casse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237080" y="54118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3440" y="595800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 rot="5400000">
            <a:off x="-581040" y="394308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ad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28760" y="1909800"/>
            <a:ext cx="0" cy="404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67200" y="617220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 &amp; Casse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7320" y="237960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67040" y="2386080"/>
            <a:ext cx="4924440" cy="352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5931000"/>
            <a:ext cx="639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52280"/>
            <a:ext cx="9144000" cy="184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ayectorias de enfermedad/muerte, declinación constante, fase terminal brev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68280"/>
            <a:ext cx="8229600" cy="18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ayectorias de enfermedad/muerte, declinación lenta, crisis periódicas, muer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25800">
            <a:off x="-262080" y="333324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ad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36000" y="563868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0560" y="4800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62360" y="51814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8320" y="312408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981080"/>
            <a:ext cx="0" cy="3581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5562720"/>
            <a:ext cx="59436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352680"/>
            <a:ext cx="380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3352680"/>
            <a:ext cx="152280" cy="609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981080" y="3580920"/>
            <a:ext cx="152640" cy="3812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3581280"/>
            <a:ext cx="533160" cy="763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3657600"/>
            <a:ext cx="990360" cy="2286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267080" y="4114800"/>
            <a:ext cx="22860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3657600"/>
            <a:ext cx="763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743200" y="36572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3886200"/>
            <a:ext cx="2286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1000" y="411948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4520" y="4348080"/>
            <a:ext cx="7596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00480" y="4424040"/>
            <a:ext cx="15264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3120" y="4424400"/>
            <a:ext cx="30456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57680" y="45007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67520" y="46530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0320" y="4576680"/>
            <a:ext cx="45720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634000" y="4576680"/>
            <a:ext cx="7632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86320" y="624852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 &amp; Casse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angarcia</cp:lastModifiedBy>
  <dcterms:modified xsi:type="dcterms:W3CDTF">2008-12-09T17:00:02Z</dcterms:modified>
  <cp:revision>62</cp:revision>
  <dc:subject/>
  <dc:title>Slide 1</dc:title>
</cp:coreProperties>
</file>