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93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90920" y="503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ferencias culturales en la comunicación con respecto a los siguientes factores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502000"/>
            <a:ext cx="487656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rientación sexu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lig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tn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x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ri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08840" y="2895480"/>
            <a:ext cx="761760" cy="60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3240" y="43434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184800" y="4419720"/>
            <a:ext cx="685800" cy="544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032520" y="3581280"/>
            <a:ext cx="660240" cy="73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556400" y="3581280"/>
            <a:ext cx="596880" cy="608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946920" y="3124080"/>
            <a:ext cx="493560" cy="951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7785000" y="4495680"/>
            <a:ext cx="67320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184800" y="5052960"/>
            <a:ext cx="1447920" cy="814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7556400" y="2514600"/>
            <a:ext cx="528840" cy="91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sos para escucha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905120"/>
          <a:ext cx="7503840" cy="40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503840" cy="4035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086600" y="6172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y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cuchar atentamen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7626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iente a que habl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arde silenci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parta sus sentimient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ite los malentend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ckman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cuchar atentamen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7920" y="2133720"/>
            <a:ext cx="686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cambie de te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ómese su tiempo par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ar consej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omente los recuerd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ree leg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25040" cy="624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86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esenci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qui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onocimiento de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vulnerabili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ui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mpatí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ar en el momen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renidad y silen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ley,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utas para alentar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convers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7920" y="2511360"/>
            <a:ext cx="71694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rear el ambiente adecua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El paciente/la famili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ea hablar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cuchar atent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hamel &amp; Dupri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actores que influyen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n la comunic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mbios en el sistema d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famil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certidumbres financier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imitaciones físic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emas cultu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edrichsen et al., 200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bow et al.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91440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profesionales de la salud influyen en los resultad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de la comunic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nga conciencia de los comportamientos y del estilo de comunicac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lta de experiencia personal con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muer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iedo a no saber la respues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lta de comprensión de los objetivo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 paciente y su familia para el final d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v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rreras idiomátic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uniones familia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paciente puede particip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iembros de la famil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línicos correspondiente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(es mejor si se incluye l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ención primaria y la paliativa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bjetivo de mejora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omun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enfermedad terminal es una experiencia famili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mpartir información para que los individuos puedan estar informados para tomar deci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quiere de colaboración interdisciplina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mberlin et al.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14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8960" y="6076800"/>
            <a:ext cx="57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hitney Medium"/>
              </a:rPr>
              <a:t>Dar las malas noticias… Romper un coraz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rategias de la comunicación para facilitar las decisiones del final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a vid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icie las conversaciones sobre el final de la v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se palabras tales como “muerte” y “muriendo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ntenga la esperanz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clare los beneficios y carg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unicación en el equip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981080"/>
            <a:ext cx="81536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omunicación dentro del equipo es vital, especialmente entre el enfermero y el médi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be ser frecu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ocumenta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pere conflict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6040"/>
            <a:ext cx="80773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ómo resolver los conflicto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523880"/>
            <a:ext cx="8534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é un paso hacia atrá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dentifique sus propias emocion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fina el conflic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usque un acuerdo para el conflic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ble sobre el conflic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prioridad siempre deberá ser aquello que sea lo más conveniente para el pa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ckman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6002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omunicación es complej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objetivo supremo es el mayor beneficio para el pacien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paciente y sus familias deben estar involucrados en la comun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proveedor primario de salud fomenta la comunicación entre los miembros del equipo, los pacientes y las fami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6156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800080"/>
                </a:solidFill>
                <a:latin typeface="Whitney Medium"/>
              </a:rPr>
              <a:t>Colaboración</a:t>
            </a:r>
            <a:r>
              <a:rPr b="0" i="1" lang="en-US" sz="2000" spc="-1" strike="noStrike">
                <a:solidFill>
                  <a:srgbClr val="800080"/>
                </a:solidFill>
                <a:latin typeface="Whitney Mediu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Barreras par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comunic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560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iedo a la mortali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alta de experienc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itar la emo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sensibili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ntimiento de culp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484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Barreras par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comunicació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iedo de no sab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cuerdo con las decision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alta de comprensión de la cultura o de los objetiv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emas de pena person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quietudes étic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itos de la comunic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omunicación es delibera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s palabras significan lo mismo para el emisor/recept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omunicación verbal es primar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omunicación tiene un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la direc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se puede dar demasiada in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pectativas del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ciente / de la famili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r hones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btener los valore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objetiv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unicación en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equip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omarse el tiempo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escuch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yne &amp; Drew, 2002; Quill,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15424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6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y no verb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666880"/>
            <a:ext cx="769644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cluye el lenguaje del cuerpo,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contacto visual, los gestos,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tono de vo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80% de la comunicación e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ver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ek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egunte cuánto desean sab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paciente/la famil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icie reuniones familia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enfermedad puede fortalec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 debilitar las relacion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decue la comunicación con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s niños de acuerdo con la edad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l desarro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angarcia</cp:lastModifiedBy>
  <dcterms:modified xsi:type="dcterms:W3CDTF">2008-12-05T23:37:28Z</dcterms:modified>
  <cp:revision>24</cp:revision>
  <dc:subject/>
  <dc:title>Slide 1</dc:title>
</cp:coreProperties>
</file>