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4648320" y="6629400"/>
            <a:ext cx="4266720" cy="76320"/>
            <a:chOff x="4648320" y="6629400"/>
            <a:chExt cx="4266720" cy="76320"/>
          </a:xfrm>
        </p:grpSpPr>
        <p:sp>
          <p:nvSpPr>
            <p:cNvPr id="3" name=""/>
            <p:cNvSpPr/>
            <p:nvPr/>
          </p:nvSpPr>
          <p:spPr>
            <a:xfrm flipV="1">
              <a:off x="4648320" y="6629400"/>
              <a:ext cx="93600" cy="7632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>
              <a:off x="5343480" y="6629400"/>
              <a:ext cx="95760" cy="7632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>
              <a:off x="6039000" y="6629400"/>
              <a:ext cx="91800" cy="7632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>
              <a:off x="6734160" y="6629400"/>
              <a:ext cx="92160" cy="7632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>
              <a:off x="7430040" y="6629400"/>
              <a:ext cx="93960" cy="7632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>
              <a:off x="8123400" y="6629400"/>
              <a:ext cx="95760" cy="7632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>
              <a:off x="8819280" y="6629400"/>
              <a:ext cx="95760" cy="7632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>
              <a:off x="4648320" y="6629400"/>
              <a:ext cx="93600" cy="7632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>
              <a:off x="5343480" y="6629400"/>
              <a:ext cx="91800" cy="7632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"/>
          <p:cNvSpPr/>
          <p:nvPr/>
        </p:nvSpPr>
        <p:spPr>
          <a:xfrm>
            <a:off x="152280" y="6516720"/>
            <a:ext cx="270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609480" y="6516720"/>
            <a:ext cx="270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38080" y="6516720"/>
            <a:ext cx="270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1066680" y="6516720"/>
            <a:ext cx="270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"/>
          <p:cNvSpPr/>
          <p:nvPr/>
        </p:nvSpPr>
        <p:spPr>
          <a:xfrm>
            <a:off x="380880" y="6516720"/>
            <a:ext cx="270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"/>
          <p:cNvSpPr/>
          <p:nvPr/>
        </p:nvSpPr>
        <p:spPr>
          <a:xfrm>
            <a:off x="457200" y="90360"/>
            <a:ext cx="82440" cy="82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"/>
          <p:cNvSpPr/>
          <p:nvPr/>
        </p:nvSpPr>
        <p:spPr>
          <a:xfrm>
            <a:off x="457200" y="320760"/>
            <a:ext cx="82440" cy="81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"/>
          <p:cNvSpPr/>
          <p:nvPr/>
        </p:nvSpPr>
        <p:spPr>
          <a:xfrm>
            <a:off x="457200" y="547560"/>
            <a:ext cx="82440" cy="81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"/>
          <p:cNvSpPr/>
          <p:nvPr/>
        </p:nvSpPr>
        <p:spPr>
          <a:xfrm>
            <a:off x="1285920" y="647712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ternational Curricul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95280" y="3504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416800" y="138240"/>
            <a:ext cx="727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711920" y="138240"/>
            <a:ext cx="727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026120" y="138240"/>
            <a:ext cx="727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340320" y="138240"/>
            <a:ext cx="727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654520" y="138240"/>
            <a:ext cx="727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1295280"/>
            <a:ext cx="5638680" cy="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239360" y="909720"/>
            <a:ext cx="481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d-of-Life Nursing Education Consort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10080" y="12952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national Curricul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95280" y="3885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Módulo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7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3429000" y="510552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Pérdida y duel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Duelo complicado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2285640"/>
            <a:ext cx="4722840" cy="385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000000"/>
                </a:solidFill>
                <a:latin typeface="Arial"/>
              </a:rPr>
              <a:t>Duelo crónico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000000"/>
                </a:solidFill>
                <a:latin typeface="Arial"/>
              </a:rPr>
              <a:t>Duelo retrasado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000000"/>
                </a:solidFill>
                <a:latin typeface="Arial"/>
              </a:rPr>
              <a:t>Duelo exagerado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000000"/>
                </a:solidFill>
                <a:latin typeface="Arial"/>
              </a:rPr>
              <a:t>Duelo enmascarado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4971960" y="2235240"/>
          <a:ext cx="3867120" cy="320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71960" y="2235240"/>
                    <a:ext cx="38671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920" y="473040"/>
            <a:ext cx="85341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Duelo complicado – Factores</a:t>
            </a:r>
            <a:br>
              <a:rPr sz="4400"/>
            </a:b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de riesgo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90720" y="2437920"/>
            <a:ext cx="766584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Muerte repentina o traumática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Suicidio, homicidio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Muerte de un niño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Pérdidas múltiple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La privación del duelo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9250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Cuando la pérdida no puede reconocerse abiertamente o es sancionada socialment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Parejas con riesgo de SIDA,</a:t>
            </a:r>
            <a:br>
              <a:rPr sz="3600"/>
            </a:b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ex cónyuges, padrastros/hijastros, terminación de un embarazo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El duelo en los niño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2590560"/>
            <a:ext cx="769644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Se basa en las etapas</a:t>
            </a:r>
            <a:br>
              <a:rPr sz="3600"/>
            </a:b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del desarrollo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Puede ser normal o complicado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Los síntomas son únicos</a:t>
            </a:r>
            <a:br>
              <a:rPr sz="3600"/>
            </a:b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para cada niño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Etapas y tareas del duelo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62120" y="2209320"/>
            <a:ext cx="80769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 u="sng">
                <a:solidFill>
                  <a:srgbClr val="000000"/>
                </a:solidFill>
                <a:uFillTx/>
                <a:latin typeface="Arial"/>
              </a:rPr>
              <a:t>Etapa</a:t>
            </a: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 1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Notificación y conmoció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 u="sng">
                <a:solidFill>
                  <a:srgbClr val="000000"/>
                </a:solidFill>
                <a:uFillTx/>
                <a:latin typeface="Arial"/>
              </a:rPr>
              <a:t>Etapa</a:t>
            </a: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 2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Experimentar la pérdid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 u="sng">
                <a:solidFill>
                  <a:srgbClr val="000000"/>
                </a:solidFill>
                <a:uFillTx/>
                <a:latin typeface="Arial"/>
              </a:rPr>
              <a:t>Etapa</a:t>
            </a: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 3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Reintegració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rles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2006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520" y="748800"/>
            <a:ext cx="8458200" cy="6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Factores que influyen en</a:t>
            </a:r>
            <a:br>
              <a:rPr sz="4400"/>
            </a:b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el proceso del duelo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Personalidad del sobrevivient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Capacidades para enfrentar las</a:t>
            </a:r>
            <a:br>
              <a:rPr sz="3600"/>
            </a:b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cosas, estructura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Antecedentes de abuso de sustancia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Relación con la persona fallecida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Creencias espiritual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Tipo de muert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Etnia y cultura del sobrevivient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Evaluación del duelo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62120" y="2286000"/>
            <a:ext cx="723888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Comienza en el momento de</a:t>
            </a:r>
            <a:br>
              <a:rPr sz="3600"/>
            </a:b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la admisión o diagnóstico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Continua para detectar el duelo complicado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rless, 2006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384120"/>
            <a:ext cx="777240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Evaluación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520" y="2285640"/>
            <a:ext cx="55803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Tipo de duelo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Reacciones al duelo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Factores de influencia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Salud general del cuidador/sobrevivient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lass et al., 2006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5954760" y="1905120"/>
            <a:ext cx="2968560" cy="31017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Intervenciones para el duelo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90720" y="2209680"/>
            <a:ext cx="579096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Plan de atención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Actitud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Prácticas cultural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Qué decir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Duelo anticipado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3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Intervenciones para el duelo para los niños y padre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7720" y="2743200"/>
            <a:ext cx="66294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Reconocer el estado </a:t>
            </a:r>
            <a:br>
              <a:rPr sz="3600"/>
            </a:b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del desarrollo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Hacer remisiones a grupos</a:t>
            </a:r>
            <a:br>
              <a:rPr sz="3600"/>
            </a:b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de apoyo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Pérdida y duelo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2285640"/>
            <a:ext cx="73915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Todos, el paciente, la familia </a:t>
            </a:r>
            <a:br>
              <a:rPr sz="3600"/>
            </a:b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y los proveedores de atención médica sufren pérdida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Cada persona vive el duelo </a:t>
            </a:r>
            <a:br>
              <a:rPr sz="3600"/>
            </a:b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a su modo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Es vital hacer un enfoque interdisciplinario de atenció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120" y="476280"/>
            <a:ext cx="8153640" cy="20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Intervenciones para el duelo anticipado para el paciente</a:t>
            </a:r>
            <a:br>
              <a:rPr sz="4400"/>
            </a:b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y la familia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80880" y="2705040"/>
            <a:ext cx="8305920" cy="369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Enfoques preventivos para minimizar la sensación de pérdid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Fomentar la revisión de la vid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Educar al paciente/familia con respecto al proceso de la muert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Brindar presencia/escucha activ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Intervenciones para el duelo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8185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Identificar y expresar los sentimientos – su histori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Atención especial a la privación del duelo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Funerales públicos, ritos, rituales, tradicione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Reflexión privad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Atención espiritual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Reconocer el estado del desarrollo de</a:t>
            </a:r>
            <a:br>
              <a:rPr sz="3200"/>
            </a:b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los niño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Hacer remisiones a grupos de apoyo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305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Finalización del proceso</a:t>
            </a:r>
            <a:br>
              <a:rPr sz="4400"/>
            </a:b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de duelo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980720"/>
            <a:ext cx="47246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Nadie puede predecir su finalizació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La elaboración del</a:t>
            </a:r>
            <a:br>
              <a:rPr sz="3200"/>
            </a:b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duelo nunca está completamente acabad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La sanación ocurre cuando el dolor </a:t>
            </a:r>
            <a:br>
              <a:rPr sz="3200"/>
            </a:b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es meno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81480" y="2573280"/>
            <a:ext cx="3733920" cy="3294000"/>
          </a:xfrm>
          <a:prstGeom prst="rect">
            <a:avLst/>
          </a:prstGeom>
          <a:ln w="57240">
            <a:solidFill>
              <a:srgbClr val="24a6d4"/>
            </a:solidFill>
            <a:miter/>
          </a:ln>
        </p:spPr>
      </p:pic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Pérdida acumulativa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838080" y="1371600"/>
            <a:ext cx="7467840" cy="4724280"/>
          </a:xfrm>
          <a:prstGeom prst="rect">
            <a:avLst/>
          </a:prstGeom>
          <a:ln cap="sq" w="57240">
            <a:solidFill>
              <a:srgbClr val="009999"/>
            </a:solidFill>
            <a:miter/>
          </a:ln>
        </p:spPr>
      </p:pic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Etapas de la adaptación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80769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Arial"/>
              </a:rPr>
              <a:t>Los profesionales de la salud que son nuevos en el trabajo con las personas moribundas necesitan una adaptación emocional</a:t>
            </a:r>
            <a:br>
              <a:rPr sz="2600"/>
            </a:br>
            <a:r>
              <a:rPr b="1" lang="es-ES" sz="2600" spc="-1" strike="noStrike">
                <a:solidFill>
                  <a:srgbClr val="000000"/>
                </a:solidFill>
                <a:latin typeface="Arial"/>
              </a:rPr>
              <a:t>y espiritua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Arial"/>
              </a:rPr>
              <a:t>Etapas de la adaptación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Arial"/>
              </a:rPr>
              <a:t>Intelectualización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Arial"/>
              </a:rPr>
              <a:t>Supervivencia emocional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Arial"/>
              </a:rPr>
              <a:t>Depresión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Arial"/>
              </a:rPr>
              <a:t>Llegada emocional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Arial"/>
              </a:rPr>
              <a:t>Compasión profunda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Arial"/>
              </a:rPr>
              <a:t>El “hacedor”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arper, 199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305920" cy="13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Factores que influyen en la adaptación del proveedor de atención médica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61976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Formación profesional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Antecedentes personales </a:t>
            </a:r>
            <a:br>
              <a:rPr sz="3200"/>
            </a:b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con la muert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Cambios en la vid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Sistema de apoyo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chon, 2006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Sistemas de apoyo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61760" y="167616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Equilibrio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Evaluar los sistemas de apoyo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Apoyo espiritual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Formación para el cuidado del final de la vida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Estrategias para el cuidado de</a:t>
            </a:r>
            <a:br>
              <a:rPr sz="3600"/>
            </a:b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sí mismo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chon, 2006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Conclusión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La atención no finaliza con la muerte de un pacient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La pérdida y el duelo necesitan ser evaluados con </a:t>
            </a:r>
            <a:br>
              <a:rPr sz="3600"/>
            </a:b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una intervención continua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Los proveedores de atención médica deben reconocer</a:t>
            </a:r>
            <a:br>
              <a:rPr sz="3600"/>
            </a:b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y responder a su propio duelo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Brindar atención interdisciplinari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0" y="6324480"/>
            <a:ext cx="441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9999"/>
                </a:solidFill>
                <a:latin typeface="Whitney Medium"/>
              </a:rPr>
              <a:t>El cuidado del cuerpo y del al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El papel del proveedor de atención médica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2057400"/>
            <a:ext cx="739152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Evaluar el duelo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Asistir al paciente con el duelo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Dar apoyo a los sobrevivient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705720" y="3962520"/>
            <a:ext cx="1739880" cy="184140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El proceso del duelo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Comienza antes de la muert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No tiene un orden ni es predecibl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Incluye una serie de etapas o tarea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Nadie “lo supera”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El trabajo de elaborar el duelo es aprender a vivir con la pérdid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an et al., 200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La pérdida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4628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Una pérdida puede ser una persona, cosa, relación o situació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El duelo es una respuesta emocional a la pérdida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El luto es la expresión exterior, social de la pérdida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Está influido fuertemente por</a:t>
            </a:r>
            <a:br>
              <a:rPr sz="3600"/>
            </a:b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la cultura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rless, 2006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Duelo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Es la reacción del sobreviviente ante la muerte de un miembro de la familia o amigo cercan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Tenga conciencia de las características cultural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’Avanzo &amp; Geissler, 200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57200" y="106200"/>
            <a:ext cx="8381880" cy="6286680"/>
          </a:xfrm>
          <a:prstGeom prst="rect">
            <a:avLst/>
          </a:prstGeom>
          <a:ln w="38160">
            <a:solidFill>
              <a:srgbClr val="ffba75"/>
            </a:solidFill>
            <a:miter/>
          </a:ln>
        </p:spPr>
      </p:pic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Tipos de duelo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83720" y="2286000"/>
            <a:ext cx="7216920" cy="37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Duelo antes de la pérdid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Pérdidas reales o miedo a </a:t>
            </a:r>
            <a:br>
              <a:rPr sz="2800"/>
            </a:b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pérdidas potenciale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Lo experimentan el paciente, </a:t>
            </a:r>
            <a:br>
              <a:rPr sz="2800"/>
            </a:b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la familia y los profesionale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Los niños tienen necesidades únic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lass et al., 2006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120" y="160020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000000"/>
                </a:solidFill>
                <a:uFillTx/>
                <a:latin typeface="Arial"/>
              </a:rPr>
              <a:t>Duelo anticipad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Duelo normal</a:t>
            </a:r>
            <a:br>
              <a:rPr sz="4400"/>
            </a:b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(sin complicaciones)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8200" y="2514240"/>
            <a:ext cx="7826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Sentimientos, comportamientos y reacciones normales ante </a:t>
            </a:r>
            <a:br>
              <a:rPr sz="3600"/>
            </a:b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la pérdida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Reacciones físicas, emocionales, cognitivas y del comportamiento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2T00:23:31Z</dcterms:created>
  <dc:creator>sdixson</dc:creator>
  <dc:description/>
  <dc:language>en-US</dc:language>
  <cp:lastModifiedBy>angarcia</cp:lastModifiedBy>
  <dcterms:modified xsi:type="dcterms:W3CDTF">2008-12-05T23:43:42Z</dcterms:modified>
  <cp:revision>34</cp:revision>
  <dc:subject/>
  <dc:title>Slide 1</dc:title>
</cp:coreProperties>
</file>